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camera.wav" ContentType="audio/x-wav"/>
  <Override PartName="/ppt/media/image6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</p:sldMasterIdLst>
  <p:sldIdLst>
    <p:sldId id="256" r:id="rId75"/>
    <p:sldId id="257" r:id="rId76"/>
    <p:sldId id="258" r:id="rId77"/>
    <p:sldId id="259" r:id="rId78"/>
    <p:sldId id="260" r:id="rId79"/>
    <p:sldId id="261" r:id="rId80"/>
    <p:sldId id="262" r:id="rId81"/>
    <p:sldId id="263" r:id="rId82"/>
    <p:sldId id="264" r:id="rId83"/>
    <p:sldId id="265" r:id="rId84"/>
    <p:sldId id="266" r:id="rId85"/>
    <p:sldId id="267" r:id="rId86"/>
    <p:sldId id="268" r:id="rId87"/>
    <p:sldId id="269" r:id="rId88"/>
    <p:sldId id="270" r:id="rId89"/>
    <p:sldId id="271" r:id="rId90"/>
    <p:sldId id="272" r:id="rId91"/>
    <p:sldId id="273" r:id="rId92"/>
    <p:sldId id="274" r:id="rId93"/>
    <p:sldId id="27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" Target="slides/slide1.xml"/><Relationship Id="rId76" Type="http://schemas.openxmlformats.org/officeDocument/2006/relationships/slide" Target="slides/slide2.xml"/><Relationship Id="rId77" Type="http://schemas.openxmlformats.org/officeDocument/2006/relationships/slide" Target="slides/slide3.xml"/><Relationship Id="rId78" Type="http://schemas.openxmlformats.org/officeDocument/2006/relationships/slide" Target="slides/slide4.xml"/><Relationship Id="rId79" Type="http://schemas.openxmlformats.org/officeDocument/2006/relationships/slide" Target="slides/slide5.xml"/><Relationship Id="rId80" Type="http://schemas.openxmlformats.org/officeDocument/2006/relationships/slide" Target="slides/slide6.xml"/><Relationship Id="rId81" Type="http://schemas.openxmlformats.org/officeDocument/2006/relationships/slide" Target="slides/slide7.xml"/><Relationship Id="rId82" Type="http://schemas.openxmlformats.org/officeDocument/2006/relationships/slide" Target="slides/slide8.xml"/><Relationship Id="rId83" Type="http://schemas.openxmlformats.org/officeDocument/2006/relationships/slide" Target="slides/slide9.xml"/><Relationship Id="rId84" Type="http://schemas.openxmlformats.org/officeDocument/2006/relationships/slide" Target="slides/slide10.xml"/><Relationship Id="rId85" Type="http://schemas.openxmlformats.org/officeDocument/2006/relationships/slide" Target="slides/slide11.xml"/><Relationship Id="rId86" Type="http://schemas.openxmlformats.org/officeDocument/2006/relationships/slide" Target="slides/slide12.xml"/><Relationship Id="rId87" Type="http://schemas.openxmlformats.org/officeDocument/2006/relationships/slide" Target="slides/slide13.xml"/><Relationship Id="rId88" Type="http://schemas.openxmlformats.org/officeDocument/2006/relationships/slide" Target="slides/slide14.xml"/><Relationship Id="rId89" Type="http://schemas.openxmlformats.org/officeDocument/2006/relationships/slide" Target="slides/slide15.xml"/><Relationship Id="rId90" Type="http://schemas.openxmlformats.org/officeDocument/2006/relationships/slide" Target="slides/slide16.xml"/><Relationship Id="rId91" Type="http://schemas.openxmlformats.org/officeDocument/2006/relationships/slide" Target="slides/slide17.xml"/><Relationship Id="rId92" Type="http://schemas.openxmlformats.org/officeDocument/2006/relationships/slide" Target="slides/slide18.xml"/><Relationship Id="rId93" Type="http://schemas.openxmlformats.org/officeDocument/2006/relationships/slide" Target="slides/slide19.xml"/><Relationship Id="rId94" Type="http://schemas.openxmlformats.org/officeDocument/2006/relationships/slide" Target="slides/slide20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817-8E72-40FC-A2A7-5842F614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7CA-0C70-4F4F-9E06-73AAB388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E1E16-95FA-4B6F-8226-2C3204E4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FA3A3-B3B8-4E75-8340-246EF322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2BF8E-E9A6-41B6-94AE-05E5BAE3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D2A9B-246E-4964-A7C8-A46935E8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0D0E8-33A6-4E3B-B2D3-99747418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EF49A-C9CA-4EC4-B18E-A13F9693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99FAA-B65B-4CC6-9200-DCD95C93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455AA-5F85-4CE2-B5DD-DCAD6CA0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C02A7-ED87-46A8-BC42-ED5D0135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E024E-E698-426D-9C41-E6C1C3B0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E7F-4708-4778-822A-FAE6E1C6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6E8A8-C165-4586-9623-60528093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0DAC8-1387-4E94-AB1B-0116F872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32971-F044-4419-A80C-EA31043A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CC85C-7976-4B88-8E5E-5C8B9A0F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4F94C-8210-43E2-B2EC-E91D61DD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08170-5CE9-4D58-92DE-AAAD49E2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59858-85BA-4EBF-8072-542019D0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E44D2-6185-451B-828D-5775F4E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B5AEA-F394-472E-A1C0-CE980199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5F208-88A1-4E93-9170-B9D292B0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C6A-9C7B-48C8-AD59-3D3B6BBC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07B1E-A318-4856-8719-80D99F29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985C4-4E57-43F0-8354-18514DDA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4C9EF-D128-4D83-A54F-0E7002DC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75072-3386-4881-BC0F-47672234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80ED5-7B03-40A0-9CC8-97E403B0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8C0C3-B6FF-4F86-ADE1-A19BF2CC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CAB50-0C8F-42FE-B2CA-FFB7AF5D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0C555-9499-468A-839D-A5D9EE6E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FB40E-2246-468D-84DC-E1ED938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6345A-DB11-42FE-BB99-604A5C06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6AEC-649F-4E0E-BEB6-5A5CAAB2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7E78C-34B2-47AC-8771-133AD72A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234CB-4435-4ACB-B219-1767935A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8AF63-B5D1-4B6C-A4FC-196F25C4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989A7-1282-4C57-AE69-5C047277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0A916-BFD2-4842-8050-63A9251F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4091C-FAE6-478D-84AF-27473202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D80C8-71F8-440C-95D1-27BBB115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6321A-75D9-4A84-B8FC-262ED462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6F467-A560-4451-BA71-EE0138AE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9A6AB-6492-44F9-AA41-BF7735BB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1780-0FA1-485B-B316-53A16894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04BC3-2EFB-47F6-9295-5162458E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002CB-CF09-400D-A1F3-34DF2BC9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61CDC-8FEA-4BFD-A077-00048431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191BB-9968-4BFC-A982-8C97A6DC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5F64D-4A63-4F7B-BBE0-3A0D18B9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7A762-C839-4922-B805-71964135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D011E-EA1D-475C-958A-761F1132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E6249-895B-46DE-B006-86F4E282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1BF7D-84CA-4120-91AB-37E0E71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8BDA1-ADA4-412F-9BF1-7E88C23E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9E3F-3E4D-4999-84EC-BD060EE6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AC7BE-1154-4E9D-A52A-598088DA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D8FC4-7C66-43EF-A513-FF14973C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DBAB4-4FCC-43E2-8622-E5AAE57B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D0386-B60F-40B1-820F-5D524376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28325-A49A-4023-A2C1-8FF8BA95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53FA1-E711-4343-B961-3ADE1A22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4E95F-2B86-4706-B0B0-2646AFEE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15A60-D55E-4964-8CA9-60837F27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193FE-F32E-468C-902E-3B7FB6E2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B1266-1700-42B9-B6DC-29BB7739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DE3A-3FDE-419C-901A-6AEC1929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91B8A-69D5-4201-A1D7-2AEEA09B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85AAB-9294-4D1B-B531-75F5BA46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5A958-C5F9-4E06-B809-DBC010A7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5B7A9-60F8-4B72-B93C-C5E2850A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79D71-D198-4FC0-A6D0-83E53D44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33AC3-EAB8-461C-82DF-C7E1DDF0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E13AA-2144-4D97-BEDC-34DB6E14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665E2-DD6A-412D-B56A-936B80A6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EFA88-F2B1-4EA3-AE56-6DA3F4DB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BB7274-8FBD-4C95-9E26-ACD3744E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E208-2AA8-40F1-B31C-0CD64094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7707B-7BAA-4A81-95FD-F933BA93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C8F79-3490-410D-9CDA-EF36133B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06FF6-DB2A-4B02-9924-B268C299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1EBCE-1353-42A1-9236-594D8A9E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CA20B-62B3-4C92-A9B8-05CFADA7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D109C-C66F-47E8-B8D0-35EAAC9A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C97EB-7921-484D-A289-756EA67E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31474-F249-4AA1-AEDB-936022A4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F2145-21C7-4E96-8530-4284F710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01132-485D-4EC7-9E35-6B6FD4F6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4DE0-6EF9-4B27-ABA8-F7E21BCA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17FF2-EA3C-4CC2-89B8-319CB27C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DC226-2942-4045-82B0-88329271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322C5F-5248-4F42-8D59-524F9B7E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5E4BB-92F3-47E2-A99E-87AFE872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EA6C2-179E-47AB-AAEA-E4EF659C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F5053-C828-4587-91F1-B5EDFE9F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EE12C-E54D-4174-BDC9-9AB77161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F8548-19C0-4A07-B889-BFA8A38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6BD95-A56A-473B-B57B-58FD8D1D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4EA70-0EBD-45C6-A18F-BBB31D31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882E-676B-428F-A347-1B402514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C492C-D60B-4AAD-91E5-ECEE9D43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77FD40-E09A-49AB-956C-A58F711F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9FBFF-6027-4002-9CF7-47B188DA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7EF0D-EF35-4561-A32E-6D84F606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83668-EF6B-43FE-A7DB-130B3536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FF2D50-0194-4C91-A7B7-53DE6130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6FF531-4CE5-45FA-B18B-61BB89F2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84469-CA5E-43D1-BE83-14DD358B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1BCD2-DC43-4C74-9F06-381A0332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46477-7D65-4A93-9EE9-4603626B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8D1-147B-4173-980F-6FABDC94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E588-1FDD-4E48-BEA5-6D6E45CB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D3EC3-0F4F-42D6-A370-66AF1BD8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92972-F9D4-41CB-9652-1B77A9B6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8B2B8-5A25-4F5F-90A5-D4BACD6E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BDE651-9A13-45DE-9246-0068AE56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D1F1B-736A-49D6-8969-5F6DAC0B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6081C8-FFB9-4202-8D7A-71F971B7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2CF1E-4CA0-4DE9-935E-B23D75F6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6F8BAE-73F9-4F53-8059-59F5FCCA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9A07AA-B262-4D3D-AC10-FF18E6B9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7CEBC-DC1C-4872-A0C1-379C76F8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F6CA-F332-4088-A00C-FBED54BC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C0155-DCE4-4283-85DC-96909429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6633E-B542-497D-95D4-ABD3E21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DE67B-DD0A-460B-A769-19C6058B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5A63B-4A78-4E9E-A867-E3A71231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CD1A3-5247-4B89-9F5F-1798C677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E761AE-147B-4596-9DEF-BA81870C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F833C-F581-4278-B6D4-3DCB77D6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93EA12-3CDF-4689-A736-4D73B82F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4F6277-3DFC-4D2B-BD81-718E5194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56D80-E8A8-43A2-8C0B-96E3A3E7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9FB8-C418-4728-B06E-6EA022D5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A4C3F-FFAC-43FF-B157-199C2488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C01B46-04EB-4808-B485-DE07C75E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81315A-EE02-4C15-B573-CEF90E97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E6AB7-A07B-477E-BFBB-4FCAB72E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F64DC4-2D3B-4AEE-94BB-FF514845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A9289-CABF-4B2E-8EA0-5BB75A01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C5FA8-B46A-4389-A3AE-62F3853B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144ED-FFA2-4E90-9080-6F2159C8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30E64-EFDF-460D-8F74-FF3C7E09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2B2923-D052-412A-9FBC-199BCF16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058A-7CCD-496F-9071-1FB8CA8E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7F8FF2-46BB-4049-86AF-561DC0D7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EAB08D-C848-4B42-AA76-C05D9D67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16E972-FFC7-404E-AABD-53D73BD7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ACD850-5A5F-4D83-B3A7-6138E13A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FAE15-5538-4FC5-8A7D-58FB30BE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EA6CF9-6978-43BF-B20D-4BC64AA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C10957-D093-4988-BE55-B23D2ACB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C9BF60-4394-4EE8-B0D2-94827454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31F9F-95B8-4A59-8412-97923566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DEB9E-B501-4324-BB61-B0DFEF85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CA56-6B93-4640-8CC4-308F90E0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25F732-4ADA-4D54-AF28-1172F6F1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879F05-D411-44C0-81B6-19B8CFA3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357E4A-E7C6-4444-ADD3-7216B475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9FC0CA-C1D5-4D0E-B679-9B3E2C91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822AA-F090-4363-9672-18CAC279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368560-A61B-4C3D-A205-6C2D43C7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FB5E86-1BCF-497C-B921-93705936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D2AB57-180D-4F85-BBC4-E3219EC3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F94BCC-27A8-48E8-B9DE-53BEB0A9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A595D0-099B-4FD0-A869-DDB31791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35CD-60D9-43BF-A440-20F9B1EB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C35E3-54D7-4E84-9CEB-01358A58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FDBF7-F15D-49C8-AD99-2EFC03A4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6415CC-5B18-4C8B-B109-418F2AC5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713C0E-93BE-44E6-9C30-17F39CB0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A84ABE-6183-4E50-9199-C111780F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D7FDAA-ABB0-4204-A722-1F905C92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9A3D15-BCB7-4399-BE60-687D921D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CE71AB-0134-4A29-8CDC-F5A2EAAF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2A343F-03F2-49C1-9641-D14B8ABE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7BE179-4E78-4D31-93F7-A91AAEC6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1A19-D608-40A0-BC05-0AC2D640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6F2FF5-FC35-4F7F-A935-BB6716AB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4A74A1-BD70-4EEC-A977-2A410F7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A82F6D-F757-4A8B-89B2-436F447E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FADFA5-C0D8-4DC8-8F2F-46FBF4A3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8011C6-FFDA-4920-9737-E58F4714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5C77D2-B62D-4DA0-BAAD-FDFF2B48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BA3BB3-15E6-4791-A039-D1E260EF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A7C8CD-48AC-40B3-B74C-5924F1D0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3CBBE6-C9D3-4AD3-BDCC-028D3D36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1DA652-F662-469B-B230-9F7F66E0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F9F5A-AA32-4623-9F65-D6844D51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95B440-5D19-43F3-8764-010A6E2E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D13CC-17CB-4281-958B-34452CB2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6A6B79-94F3-499C-98F0-29BBEC7B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D4A2BE-14E4-45DF-9DEE-C3F62750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AF7C70-D2DE-443C-8F9A-6DAF2297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62B644-DA8B-4899-AA25-47683E69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BC4E5F-B2AA-447B-90A8-1832415C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FE9106-4115-4266-A8DB-364B84F0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13EE90-914F-494E-849E-4F15FAB9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5120E8-E854-4778-BA58-DDD5AA71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A05F-66AA-4FEB-8BF4-1CF94F9B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D023A1-CDE8-4CA8-9B5D-5C22D82C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68ECA9-BCD7-4087-9840-615AE057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B8FDD1-CA97-409A-8025-13C57F4A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8A7822-3704-4DFB-93F5-D21633E5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F95F4C-F6F9-47FF-A8D7-745EB0D6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FF8772-9C5C-43D1-8F7A-EAA078D3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306378-4049-4A35-8DD8-F19D5F12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216FFB-5E86-46B1-AEFA-2BEFF54A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BC0E84-559C-4F62-818F-F2C2F5A4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87BF49-230A-44B4-B3B6-655D13B3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D019-F210-4CFA-A34E-24160301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60E9B9-8D62-4D32-8E28-A88EB40B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E211E3-8BF2-48A5-861F-53C6015D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E0EE98-1FE1-400C-B6AB-B9537040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1C9007-6703-42F7-A95A-978E1B8F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D31F3D-049E-42A6-A40D-D527A1C5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693880-C670-4C5E-A234-C35C3475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31DDB2-61EA-4464-B83D-9A15E878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B8C74D-2E08-441D-8552-B5B571E3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BC7D4C-21A5-4750-97C3-AC1E1CBC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9C6DFB-36A6-4716-A9D4-F43C09C1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AAE-91DC-4D4A-B2A3-78FF772E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C91D-58C8-4E20-9D62-0E1F0C42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C8A01A-8870-4D1C-AD07-794811C8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0BA1AA-49C1-41FA-8AB3-960966DE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07D318-21A6-4BB3-928E-D341927C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32DBC4-B026-4976-8ECC-483AC34B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C17A21-5B83-41B4-B98E-5E73BA5D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0AA079-CD15-40AE-8CB1-CFBB59BE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0437CB-4B1D-4BAB-8F15-CE4B691F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B82B80-1F53-424B-8B68-6A17CEF4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855ADE-71BE-406A-A6B3-94C1054C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72BBAD-13F9-4543-A9C6-E0439C0D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F9D1-8B58-4D90-9D30-FD1E28CE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87106C-058C-4931-B89E-60C827A3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7A9B10-33D1-4DE6-B093-1A836424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99ACA5-C273-4640-BDD2-F457BC6D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5A4967-15AD-443F-BEC5-5591D435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C7A435-6AD4-4A88-BC9C-5BBB3EE8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886B57-399E-4254-B9ED-9BBED785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539CF1-65CA-4802-AD0C-F82DA133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D9A8E6-F91F-4A87-A773-87724B18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49F3CF-C626-4F1F-97CA-260FB468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AED037-BBDF-4C21-9DAC-3044A97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BC881-44BE-47CA-A4E5-4DC2BF18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F7F806-D796-4B98-BC11-EBC35E64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0BFBCF-929D-4E2B-B47E-A6489153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D76A50-438F-470C-AA10-47C12B1E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4BB4CE-2620-485E-9AF1-F11F64DF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468AD1-9BDE-43C5-B42D-5EBBAF81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203584-FEB6-4474-93C8-FF4318F4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E0F1FE-8C9A-4A91-A410-A53C605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8EF40B-C3FD-43D0-9FC6-5170C9C3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3EA3E6-BC55-4B70-903D-D480E1B7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DD5DA0-B943-4148-A9E3-BE5852F4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6063-72B0-4B76-B1EA-D667F28E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75BCE7-B041-44E6-9E69-BB28EFAE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5FB928-A184-4496-AFDA-C51033DB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BDACBF-2729-4FC3-9532-641D1905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A8C8D5-D437-40B6-B355-A4B4206E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D7DE42-BC8F-418E-B189-B9B44AA0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D7E319-B0D1-423E-8842-ECB487C4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AF3A64-9544-4259-8D13-E3A12227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6F66F7-7E5E-4BF0-88CB-1E17055D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91919A-A7D4-4B3F-B39E-A1C1C1AE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45F4BC-F031-4EF2-A741-95ACF022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A0EE-6C28-4620-9505-00D4260D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23DE53-3597-40C5-AC72-ED266C93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D95794-CA2E-4809-8942-3FB15262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1D9467-D26C-42A2-BDF9-49E044D2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B38FE7-11B4-442E-BCFD-40521C10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0EBE44-1E01-4FEF-9D22-C222DD41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3EDB9D-1A65-4B90-A826-B465418F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EFFC42-4776-421F-B534-5A485D50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99A9F6-BFAE-4CF8-A3D5-C0709C37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203223-F07D-4490-919F-25941432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DA00F3-43DD-4354-A8B6-86D4374F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AC23-4856-4A39-86CD-EED796D2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B2A7A9-BBC9-49DB-B1CD-85F24AD7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1E722F-966A-4153-BB8F-5DDFBE55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C47912-81A8-493C-8C55-A39F8799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290E27-6ECD-4ED1-AE9A-8C436750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B44A68-FFD9-467E-AC0F-4B7F7A33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DCB35A-1E59-4ABC-B49F-BD0652DB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3D4574-5C43-488C-B371-3515CCF3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A54017-1DB5-4404-99B0-C28EC899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0FD0FC-396D-4C11-8177-787B5068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BCC5B8-6933-4144-8407-E7C1A967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5F80-623E-4002-8F2C-F3A88D0F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E85AE0-B4A6-4A49-8B0D-ADA1D67D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15A5FB-C901-4B57-8845-8B16A9F6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01DFCA-E435-48CA-931B-F83DF110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ABB4EA-3519-43AD-AD35-DCF974B7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93A617-F224-4DFC-B5A4-924707A5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2BE7DF-2B17-4A0C-9C6E-430DCFB6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098B7B-2571-48B2-9506-B3317C86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F7AE6E-B346-4F1D-816E-5F58EC9B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FEB3FF-2433-4CB3-AC7F-AEA656C7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F17062-45DA-48E6-A80B-4FF78CB4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FC0C6-D151-4247-AB1B-03C9BAE3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81DBBD-322B-433B-94DB-12CDDE68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B2DA51-AD40-4960-B1C0-E7B09CC4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3C5114-5D0E-4F21-9DB6-B28A6EB8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046EEA-E1C9-4C93-B614-80E84E68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9A7AC6-B059-40E1-ADA1-C1BDE8CC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5AE93F-4C99-4FB9-9D8E-F314C688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B93C4D-69EE-40C1-B978-096E7938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B5B46C-BA8F-487B-8B96-D06A77D8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0D7BA1-3511-4745-A6A5-B96F9125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ED1E66-2ED8-4B4A-9725-AC2224FA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D37D0-C8F9-4260-AACD-78F1F0F4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E3EF18-34F8-4EDE-A497-9238EBC1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E1BCE0-02BD-4869-910D-DC59C465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31176C-EBE9-463A-A80E-4FD8E52B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A3E396-72AF-43D2-8EDB-8EE0B5CA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E400B0-E4AA-4310-AB11-F1C6378F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9D87AF-CE9A-45CC-B195-93F272A5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23C607-BAFB-40AC-B34D-237507AA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5172E0-FB3E-4BE4-935F-0D6138E5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CCAE55-3E59-4136-9AFF-5E092405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754253-7F20-4C52-90E0-9AEFE93E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17A54-52E4-4930-B8B1-D68C5F61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6AC49D-3190-434C-B331-BFE45C8B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05C7A2-4316-44CB-8434-E8DC4FDD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07762A-CFCC-40E4-854D-25624E66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8A8C78-8060-44AF-A505-9F3FCD0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C95706-EEB9-448F-BB45-79066678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984037-CDF9-436B-9992-8D4DE986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A58167-5FA8-4C38-960D-5A47D93A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4087D8-8606-4352-99B3-5A9DB9FE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DFA62D-5F10-4E4C-BD47-630D98A7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BA8CF9-93B1-46D3-A7D4-3BC99DE1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51D-B251-4E13-A192-EBD96B62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91DFC-65F8-4A9B-B24F-8231000F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8D4F94-98C4-4B65-A6F4-408D451D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977540-C2B6-43F0-A740-31D59A0A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16A7FB-9FCF-4590-AA98-280E6FAC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B6FB8E-2617-42AC-A03D-46B85E8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8C644E-0108-42F5-B056-48D9B19E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C7F53E-43C9-4348-B6C8-7920C126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76F51C-C20E-40B9-956C-C0AB52A0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CB6613-7AB3-4042-A259-8D7DDADF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30A94C-1E16-48FF-B12D-4BEB75F4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118B65-5BC0-414B-8E7E-B5351DBD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ED1A-C3E1-444D-9667-1FEA7CAB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3C8E8B-C984-4007-85EB-0FC7A996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251B88-EB73-4A85-BEEE-CC28072C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465830-2981-4B1B-BDE1-7C0E2EA6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E924EC-4850-4E30-BAE7-FE9B6480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CCA53B-4EFF-4C5B-8232-555FE4BA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E42449-F233-4A61-887E-63325127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7D06DB-F159-4A08-89F2-C18EF64D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F0D9EE-FB61-4415-ABB9-E5E00FA0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993E94-A3C6-4F4A-8384-A067ED84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A09D62-6E63-4530-A7DB-1A39DEC2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0AA0-296E-42B9-B5EF-0837E4A7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9F63DC-CB37-43A9-B00E-576700C1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84A2BF-916A-441A-BD12-75DC2F10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E0967C-95A3-493F-9021-FEE0E127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2B2EB1-0A9C-45F7-A601-5904EAE6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E2AF09-E2E0-440A-8BAE-6152CCC9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4B5D74-2A80-48B5-AACA-A980A63A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6139EE-C989-4CCA-BCD8-1E0742B3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5EBF0B-569D-4067-80DC-63D9C6D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C26C6AD-B23A-4E6F-81C5-A8E3FD76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A653B1-6EE0-4699-BF60-33408242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42E47-78C4-440F-9794-AB9D31B6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209A76-2DDF-414E-90BF-9B7309CA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F16AD7-FEE8-477D-AA76-D2E0CB5B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9AB0B5-318E-4095-A673-BD6AB958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5E745C-721B-4549-BE81-C0148D61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9096F1-C14B-4EEE-A810-07FD749D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9B940B-92E8-43D2-A904-DFA50218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716967-0228-4967-ABA1-5FCC1E7E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C11DD1-C381-4108-BE6D-E27AFF3A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4825273-599E-453D-847E-5443EEB9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13292C-4A3C-40A1-A29E-5B11BB7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43F6E-D58B-4037-B099-4FC3021A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FA453C-1840-420A-B9D0-F4AF02B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41D687-56BC-45A4-9E82-90E084F6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CB05DD-AA4C-485F-BD12-31061C61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F5C6E0-5185-40BE-AB1A-48B39298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75C59B-FE43-4309-9CBE-FDEA0B99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72B2C4-DB9D-430A-9332-2F88CE7D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9D2A40-0643-4CA9-AE3C-DF624004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D861A03-8EC5-4CCE-A829-15B7B7D7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C798529-EA99-45A6-ACFA-B67E463E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F9432A-62EA-4244-9DCE-E81A1DD8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9CA3-9F12-408C-B59D-593BA7C3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9B86B69-F4E7-4F53-9857-37A1D650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6424F1-48B7-4FCE-9081-6F83A258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0E2BF6-936D-4F1A-AFB0-51CBC2BA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8301C8-0BB1-44D7-9590-7271F17D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BF1BD4-A775-4C8D-AE12-0BD2E2A6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96054A-DC01-4F85-BF54-6F885301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48C6BC-E366-4916-9A18-41413FA7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C28D236-DB35-444D-B99D-51DCC5F7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93D056-BE9B-4963-8366-B824872C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BA7A77-D895-46DD-A378-42764BA7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888DC-874D-4A24-A80A-D86E8650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DA0327-79C4-4D43-B2EF-D5FFB938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DC44E5-699B-4629-939C-25CDC214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CE8E18-F8FB-4277-99C6-36B9D908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9EA1DA-842D-400C-ADE2-4A04CD4A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BE90B8-FF34-4ADE-9F74-AB7EC546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FBE1CD-6668-47EF-A3B1-8BCC1758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18CB512-8E97-40A4-83C3-F50E5A1C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2A146F-B227-48CC-9760-710207EA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90A1B1F-02A0-410C-A544-8DDB49EB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DE3D23-C3D5-4CA8-A9E2-7FE8C118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DF481-F198-47EE-A016-E1ADA89D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8DB5B08-662E-45BA-A88C-1C4A9ECD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18F341-1717-4545-877B-81CFCF1C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63BA7D-576E-4360-8484-2158D679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9931B7-6298-488D-8303-66406E1E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25F55C-F621-4EB8-9021-3CF3B5F3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173FB0-D83E-47C6-B9B3-0B32AE75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52A6634-7667-4802-91A6-00A83458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CFB641-77C4-4F60-AA48-CAF5C2BE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2C0960B-1DB3-47F0-80FB-D15C907B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7BBEF9-D79C-42B4-8694-13FBF042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4A61F-B131-4AE8-8602-1E4F2166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0384C0-8BC2-4B08-A3C8-F2D05EDD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EAA1E2-63B7-409A-B001-F88FEA66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E04FF72-3419-461C-9C61-3382499C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2B5E6B-B065-42B3-BAA5-11032167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5E24141-8396-4C36-AC39-9E280AC4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7E3B7D-0892-4CA0-85F2-51233F81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976E52-02EF-422B-9718-932B9A44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4B2CA3-DD23-4A54-B30F-6554E20F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A074BF-6A13-41A7-B104-E90C6B83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59DC7C-80EC-4A85-B18C-3371A24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6BE6-C46F-447D-8100-70517393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7E5DC5-50DB-4AA4-BD5E-F37534F2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7CC03C-B6DD-461D-BD60-FE10B1AC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8A7347E-63D0-43B3-99E6-C4F80246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4DBE87-B270-449C-9E9B-62D1A342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7E33A9-F7C2-42C9-83BF-70D85E7E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6A59D0-9B57-406B-8500-2E5A9E49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7B3CB9-8C6F-4807-B0BE-3388B731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361369-39AA-49F1-8C44-14C8606E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E0A142-EE9C-4903-BA19-464E89EE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A49D72-B2D4-4BA6-96D3-9317BEC0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921-C92D-4F57-8A96-F380CAE4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BE5F0-3B98-4E01-98D2-A2C2262A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CF2F86-DC33-4933-9BFE-98664E49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8EFA8CF-298F-4066-B9C1-4F52BD00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B239342-3855-404C-A818-7FB8EF0D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8AB074-7C8A-42BA-9F53-973DCB08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D03462-97D3-41EE-ACC0-F22D74F5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E7D6866-E742-4448-9DAC-EB511336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9DAE32D-BD4A-49EA-90C7-5EC68EAE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8FBDCD4-7D9D-4B7F-BC39-51907BAF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F18B9AD-6C48-4A69-8CC6-D1A4DBEB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9EB652E-D5B2-49AC-816A-D14B7DC7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18B7A-1846-4913-99CF-30FC9ED0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5657129-04A0-44E3-8EF2-9024E597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07E33FB-3FCB-4F9D-BC21-31DDE657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1FACE1-02E7-42CB-8447-AE15BEA0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ACBD625-3213-4177-8EF3-2490BCFC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41B119-1BF0-4BDD-A839-641ED72C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AC85D7-713E-4439-90DC-45FF597B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C3D90C-52C2-4971-88E7-7CDCF8E8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2B1C1D-7410-431D-8109-1254862D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5ABCBF-A8EB-4D0E-AD61-51FF4A51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D356C26-5873-474F-910F-F0CF4D7C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DFD40-C880-46D7-9202-ACCCB92F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FCA1350-E811-4EE9-8C9A-83538959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1727ADA-7300-4289-882C-E8929061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5A9EFDF-C0E4-477F-8F6A-07BB797B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A85F08-9372-431C-846F-750577F9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6CEF393-88A8-4800-AB41-9D0009A5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C834794-D2D4-4D51-B407-3DC20922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9DEE06B-CEA8-41E8-85FF-9270877A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64BDA8-6313-453B-8B2D-71B5CFE9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CCF1BE-857F-4D83-BD74-98A992CC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2ECF4E-84AF-4AB5-B281-E38EF1A4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63774-4367-4836-9EC2-1833F56B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65400B-D83B-46D0-BBDD-9F26CE3D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F4DBBD4-2AD5-4518-A557-45789316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B8B1177-7A9F-42DD-83A1-79A4A396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10DB7C-339B-4C2C-B21F-B47E381A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EE5D292-2F36-46DA-B28C-E26A9557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8939BD7-B725-4AAA-934F-839A914E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1D83BC4-347F-42BA-AC2D-A66F5BF2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121B6F-EC4F-4A8F-88BD-990E6D82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5A304ED-6492-48FE-99A8-20D46670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68BC93-AD0D-4018-BEE6-6878AC25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98DE-8874-4E4E-83B6-399D5AF8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4E6BB82-0CC5-42EB-831C-7DAEF260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B92EDBE-30A8-475A-BBF1-F8686C91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B9EB113-3CD2-4637-9DEA-7BB3D253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529707-B9CA-421C-A859-81914873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7768305-DEE7-44C9-94A3-67CF6388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1E7D044-D059-49C3-81EC-870B1E5D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1D6359-9725-41C2-9C27-4CF2AF06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0A7EB7-8290-4CC7-8D1E-070413D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79D43A-FDEB-45BE-8A59-F16AB810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9C2A12-2B77-4B99-844A-8CDD7CC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04D36-72DE-4B92-BF23-2B4941E9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5CE5BED-C87C-483D-AA83-BF6F0288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02B363-4114-47D0-947D-7B95187E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1507F4A-D310-42F4-996B-8B621F20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A292E5-3FA4-48C1-8899-D28F80AF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FC19B05-8DC0-4D52-AF80-2E8CE149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51F7873-2B52-4F27-AE4A-1A279DEF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84DBD9B-F502-4CDA-8359-40547CE3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655B465-6A62-469D-8BFD-81761B32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4A0908-7CB0-4EA0-9BA7-92C7BF91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16F3ADB-9B4F-4959-A585-84722EE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14494-30B7-4BD4-8E45-F1EBFEB9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753954-0B90-45F0-895D-7A908A3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2C2E326-6229-4A4A-BC45-E72848C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28960E7-6903-4836-8944-3178495E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6EDC65-AB32-41F6-9D66-94E90FDD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A86ED1-187E-46EB-B567-CFD5A5F4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0C2EFB-71AA-447C-96D4-7467D9AF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F0A31A-0134-4B37-A834-5A0025A7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000FDD-44DB-453A-8042-95CE4DF0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1B280FF-1E9D-458D-8A99-F4129CCC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D5DA7C-21E0-4562-9957-A62C68C3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5FF3C-2944-467E-B4D8-283ACDB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9D671F1-3657-4159-8D32-07678F86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ED2AFB-2252-45BF-A900-AF28DBB7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EB4A62-6ECF-446E-915D-99A0271D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DCB08D-B3EC-465D-B9CA-B6A60C88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DF4CFA-71C5-4404-B2B6-17A4FA2F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5C57AA-96DE-498A-AB2D-8B8E1752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9065DF-5D04-462D-9F35-33F3B82B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DE083EB-0F7E-4726-B2A1-DE129FBC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E0B9D3-B146-43C6-AE9A-5CBCB92C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AEC9CF-76C6-4502-B041-E35A90B6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A2A7-1E74-482A-ADD8-1FE84E23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D95453A-7AD0-41BC-9922-EDC60FEF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F8B1F72-9277-4F8B-ADFC-218D8CF5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C29668-AB5A-4FD5-9737-82D26DBD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22C73CA-A714-4EA2-9DF8-1743C2D6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D28CD08-EE0B-43EE-AAF8-66C71497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AB334DF-05E7-4729-8BD0-BBA887B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B22CAE-5664-4D63-87B7-035CEED9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E069D74-3A0C-4B1D-B23B-0C658400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7748AD7-D0E4-49B1-902A-5A32F24A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6E3AB9E-16A5-466D-B649-B4C6CA92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7BCB-E70F-4087-85D0-320941A8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A67BD3E-8D64-41AD-A3C9-46983861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6AB058E-FCEF-4D74-8C05-0A04CD44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B32CC4E-CCC8-4595-A637-DCD1D326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06988B4-10F3-446C-93F4-E4252505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B9787B8-A8F0-4C11-B355-E2C31D51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6DBA748-B051-468E-9191-23677937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BD6D2FD-00ED-4704-9A64-4C246F9B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B4FCFC-304B-466F-8EEA-BA4F045C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3EF8A2B-9478-44D5-B7D1-F73624D9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7355122-B897-4D3B-B54D-F05364EE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E48-BF46-45AF-A455-8F70799E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CA5C-6906-4893-925C-EFA00761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782E5A6-A11D-4E19-864E-7E4D3A86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AB84B4B-79FA-4B04-8AC3-11536D41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B62569A-D88D-45CC-818E-CB58A402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C3A970F-6E4D-478F-ABED-FE15AE23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C025D8C-D524-45A5-81D2-76DAE3BE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90818CA-2C51-4D1F-BF64-3B4570A7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37ED2EB-6090-4CA1-9B30-E9B3814A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6B21BF9-C59E-4D23-A7C0-F3DC3065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35D9BDA-F49D-4225-9C5A-951AF02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F8CF7CD-D879-4E12-BDF4-BB76A47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3800-E27C-40CD-AB7F-BB6BB93E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B9CEAEA-3547-469F-A125-8A69C6DE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6570A3F-1707-4247-A52D-B277BC63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D4061AC-8F51-45FE-AB24-6D0F57DE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B480E94-7472-4BCF-858A-EA801766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21A6127-2916-4E47-8EE2-4819F5C9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80503AC-97CF-43A7-8802-CAE8D431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A575B70-63AE-4E59-9096-2D1EBBFF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F960580-D5FA-4EE8-9E5B-04CB55A8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7A58A52-C6AA-41DD-8D9E-70AF4478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BE8493D-0399-4EBB-B136-EABC4FD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8BF97-8B29-4B1F-A065-429E1FE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2910930-EFFB-493E-BE2F-EBDC789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4DBE958-58DC-425E-AF20-11094704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056BE6E-B2AE-4E5B-8710-6250CF49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8BE840-548F-4BD7-B105-C34D112A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903A26-986D-443E-B594-303EF9BA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605D146-DE48-4200-A2F7-E48663C3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DD99519-D544-476D-989B-44699BC8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5D9850C-DB0D-4C57-A8DD-ABBB023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5E42DB0-1E7A-4938-8A42-CEDC2B46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A884EF8-DFAB-43B9-868A-82E45D96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8DB55-9203-431E-89EE-561CBF27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1EEA61F-5B0A-4EB6-8A65-422C4C61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F13FE8C-2708-4DA9-9D01-C9C8EB6D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94F8489-9AB6-488D-B7B3-A63D9BC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864DED8-85A7-4F98-A6DE-80C196E7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F5BC248-C1E5-485C-A294-F4CC9CD1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2E6D3A7-47FA-4286-9D3E-CFEB4B64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6F67343-C00A-4567-A6B8-9377E0E8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F7BCEAE-74BC-492F-BC15-FD418F56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68F7AD-5DC0-4A28-ACD7-4B2176B8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2364A74-B565-44F9-8A97-B2D0A6EF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D6A6C-5E96-42F1-8ABD-D8707C31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6F1723E-2358-48C2-872C-CE195D12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B5B8823-2F2B-4B30-BA3E-F4B7CF23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91F4F1F-3E77-454F-AC6F-35B9A786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F29E552-D0E9-41D2-ADE1-4C127DD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A2BE5FD-30F3-4C26-9A86-6F973535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9ADDBF8-AED4-4467-B29B-3374A8A5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B9C349A-7AFB-45AA-BE91-ACE7AC27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27D7A8F-3B69-4A05-8F6F-C4087D48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4CE13EB-91A2-4775-8CE3-21C4FA7E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AB26BBB-E446-4432-965B-3AF0E7D3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660DB-92D9-4BE6-9E0E-91B2A47F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084B81F-1AAC-45B1-83D1-0F9F498F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EF9B548-A88B-4FD6-A744-1C904390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ABF8171-3ABE-4035-A086-702C0A9A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BAB46C9-0CA2-42B7-ABD4-58B1A19E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070E5DE-0069-49DD-8AE4-60C87AA7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C9607F0-5E86-4291-9557-D5C0D7D9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B79B43B-E319-4672-9375-2B5CBC67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A5F666E-29DA-4558-94F3-2C110541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C22298B-432E-4C09-AC7C-A92EC2DD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B608E6-097F-4041-BC0D-C56E4AE4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5F9AE-C811-439B-803B-8E4A59EA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7B419B0-CE8F-4A9C-BC34-A3B3CE88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2ACD5B2-1389-49E8-B117-C253F700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C8C765B-8723-415E-B1F8-D4442FA3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A54C98C-9CC4-467F-B569-E8311EE6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589F039-5F0F-4D85-9E3D-B2219952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8A9D7D9-31C9-4FF9-A9B4-B84D3B9D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CEF2933-31BA-4D3D-BFBF-6588EECF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574BEA8-CA3E-400F-B6CB-09C950C3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32EEF36-CB79-43F0-9D30-B119F353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B2F5F29-F215-41D3-93EF-03ECB9AA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0819C-C16E-4EDB-B2AE-EC57E97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1671A29-CA8E-4344-8E2B-C6B51C51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143E246-355B-47A4-9A88-1EE1732B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9A605F-E04E-4F2E-AE67-0508D221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A39527F-3B4A-4529-B137-E5B2F837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611FDC9-199B-465D-B835-DF62387A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D138746-EC64-411A-B207-1547C90E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06104D3-A0B9-40EE-B069-2372C69D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C8C4001-1FC2-48A8-80FF-C75DA5BF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753A7B3-700D-4260-B781-C20091E5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CD9FC6E-01DE-4C52-8485-F0F2CDCC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A14E6-5425-43A2-A743-83EE6F8E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45CD350-F855-407D-A6AF-133DDF23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52B190D-D429-453B-B785-3966032B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020DD50-97C6-4009-BCBE-DB41944E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42D6EFF-80D6-4F87-8D72-6280B8FE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010F46E-7190-4482-A9C3-FBA1A669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9442E16-1BCB-49C6-9EBC-2D292191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C95EA5B-A8B3-4C1D-A23B-CA2B7083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186B33C-215D-4AFE-A347-79FD3A69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71729E0-1723-4AFC-8BD7-033BE7D0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5692DD3-84F3-453C-8FFC-24D76C57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EB65-9799-4E80-8D41-53C961F5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4D86084-580C-416A-AED4-364A041E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863D49F-440A-4A72-8874-0105D0D2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67D7D25-B99D-4B71-A5E1-E0348EC9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46F12FE-B3FA-4193-A6CA-B20117E5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A091CB0-1447-42F5-A1C3-5E35C9A8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ABD949D-0C49-4E5C-A466-4D969D32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61D2B95-FEC5-48A1-BA72-341BEE8A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A2B19D3-768F-414B-9DE4-5B8F5E72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3A58530-3F35-4BB5-A18C-422B7FA6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81017F9-F286-4EAF-9890-D49D4718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E4B-F311-4308-81A9-1FDA96D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AF9F1-41BB-470D-B77E-FDD30B0F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D6FFF44-8531-4905-A5FB-E0A87CF6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15D86C5-9163-4D13-AF3A-070EB1AF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A3EF3BF-6F1F-4722-9DD9-4413721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84A93D2-408E-417C-8D48-7E0DC5AF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6D9ECAF-36BE-4088-B96E-71B41045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D06801B-E465-42DE-9382-4D1FDD46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EADC639-240F-4228-82C2-C28DE35D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634994C-A4DC-4981-9F17-FAC148DF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29476AB-6192-4D1B-AB3B-0EDA1350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836757D-DAD6-49E3-AE98-0DB92113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37A1F-E1ED-4223-8FF6-52B9DA06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B33B38D-568E-4F2D-B39B-D796AAA2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CCB494A-765F-4557-A75E-6D167877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74AD33-18E8-4D73-AF4C-0D1DC880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7EEC851-902F-4D8C-9707-B9DA6DA8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06A97F8-474C-4D66-913B-5783B6E2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D382C2B-DF3B-48C9-9FB4-ABB65686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1F401B4-117C-407D-9978-23F11E2E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D4E429D-EED5-4567-852D-5890F74B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D04D0A3-8604-4263-A81D-B2AB1715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DF0F100-000F-441A-95E6-B0E60B4C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8AB7C-105B-4A42-9043-6655FD40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84C0A49-F11A-4215-80CB-7D5245F5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321A15E-7B82-4F2D-8AA8-633A7F62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A1D86A9-041F-4A62-8347-D33FAC06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20B6E34-654F-4661-8F94-AF9A69D4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FBCEC5D-F52D-498E-BD18-838BB22A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F2A5F6E-A47D-4D28-8B28-9C3A1021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35D23FE-778C-4577-AFA5-00B6176F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CB42904-F854-4AF2-8DD7-82A1876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5E8D4A4-EA56-4354-B161-F6D0C90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E73AADB-094A-412D-93F0-5403563F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F75EC-E657-441C-AEEC-D0B14A01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3AAD0F0-E1EF-4CD9-B030-3754B2C3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ED35FEB-329C-4B25-95C8-E0F75A4C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AB9784D-0BAB-4B7F-8FFF-149B3C61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15EDC0D-FFE7-4980-93D7-97F87414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C71D558-8A8A-47DD-98FF-87147CBE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145605B-358A-4388-93FA-51C760C4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7F07B67-45A3-4E8D-BD55-932DF86E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EC8731C-74DA-4DF9-83D8-15C2F878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65F356A-2A05-4A56-8653-7193624E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0C52A15-E223-46E3-A0CC-68D2D172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BF1FB-9875-4801-BF74-141ECB99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140A5A4-0208-434D-A130-3116CEF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D2E2560-FBE1-4DC9-89AA-D2B022A2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B316181-A650-439B-AA08-B2D03D33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E73D849-C13E-4796-980F-D55F645D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C92AE3F-75B5-4E81-BFCA-C712A2B7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0B8D9E2-1F9B-44E7-AF12-174A14F4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1560781-3FBF-4F1A-8097-F14A12C0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6F0BA2A-F417-4B72-8F11-8BA2D194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F504F74-C924-4EC0-978B-6F865045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F90968F-EFFC-4305-8044-CD06CAC3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18CF2-FF49-430F-B84A-2874278F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853586E-D321-44DE-8B2C-EB8687AD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CB46D13-74BB-48AB-82A9-F2AE608A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6C3CB80-F63A-4E4A-A067-6B609FDE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C5EC779-359B-4E3C-90DC-008304E2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A89FE8B-734F-4A44-9C87-08E68F75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C4F089E-A59A-41A5-8898-F00F4A25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07F312A-AF72-4035-90FF-6657438F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F38CEFC-1EE8-47D8-AB0C-D72EC13A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B2CA196-C74E-4BD2-971F-A39BAEE1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F12B959-A8DF-4436-AC0C-95497AC1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DB939-EDB1-4BAA-9067-40A61EF2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3C25AFC-B063-4606-AE82-4EA9437C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F8217F6-1FE6-42C4-86E1-F52A5710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64A8764-08E5-460A-8658-DD6FC9E4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5C63264-5CDF-4D47-AC63-97FDB083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13DCDEA-C66A-4793-9C35-B9CC560F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D9E0277-1B03-4A68-A9A4-1A325AC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C9ECBCD-9E72-48AD-BF3B-71A7C6F9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54FB418-8CC3-4626-89D4-E48E54A2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B6787B0-3EE3-4452-9DB2-77F7C5AA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23B0D51-698B-4BCD-8F10-9000C6F1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97DBF-19A2-4335-A20C-BDD4EFE0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06902E7-478B-454C-B081-F2D28942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80A5867-3C83-4F70-AC21-9C54D699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E8F5A13-63A9-4162-9CC1-00F3C5F9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7880EB3-F6FD-4D8C-AD4D-86AED264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E4F91C3-61E1-4BC0-8EB7-C12A8FED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EDA1A5D-32F8-4525-AB84-8572F84A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5D23E5F-78A7-4BEE-BE5A-D081453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317443C-7C72-4862-824E-8793208F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494696F-74DD-4493-A03D-AFFFA14C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BC30E85-7C90-444D-9C3A-9A420308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89312-ACC5-42E1-AFD6-A499D92D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085B96E-BA63-45CF-B5AD-96E2C458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A42193A-5483-4D02-94FA-C5B945BF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848FA12-188B-4F92-B845-436B9189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AAE8E70-DB1E-44E8-9537-C401FA94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F2F5D81-51ED-4F9E-AFD9-74AADBF1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0791893-F80F-4D1D-903C-7A2DBDF8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9A9BA71-A38D-4709-87E4-7F68E7D0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E03E38F-F118-4968-A0D7-84709EE7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0E01A92-D8E4-4F2C-AE5D-02719FBA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79CAC19-E7F1-4609-9FEE-6D2CC483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B982F-758A-4268-BAAA-F592B41E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E8A9194-1CE0-4A86-8309-165EE33F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1791524-13F2-4F8F-ACC0-407CA39D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A31D540-2617-4A14-B48A-34CFED5B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3022537-A39B-47B8-9257-1687E9D3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BB39795-77D6-427A-A5E7-DFFEAFDE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63E08D5-42EB-490E-8A0A-39FBEC47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7D6ED23-6E50-4BF8-9941-85D6B031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7F231B5-0ACB-4AE7-86B0-7A01965E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522B60C-C9DE-480B-BB16-5560D818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B10EF37-9386-4CA4-BB3F-5435824C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077-7EE3-4871-ABDB-36E3FA84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BE671-4191-40B5-8268-B2AD929E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EFFF26C-264E-4530-B86E-30F597D9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B3E478E-F952-4C76-9B78-C7753C1F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B924EDC-6C89-498D-8EDA-D1ADD0BF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8A46388-61EB-44FD-9AE7-A7EF381D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37A0BBE-99A7-4687-AFA9-0FF91C56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6AFEDF7-3441-4AFE-9079-47D84FC2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3F025EE-04FC-47E9-8A78-795330E9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81F3BA2-87DA-4DFF-961B-68158BF4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F17B046-856F-44AF-933A-DBCE7875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46E2AE2-605B-46F3-84D3-9173FA2A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906BE-3F1D-4732-B6AB-8BF1F14E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8223D92-024E-4DB7-9CAA-4BA4C499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AA54C6A-02DC-45BE-A2B6-E5DEA3D6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782801D-CA5C-4CE0-874D-896EDF8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930C01F-5099-48AC-8DAC-7927225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54A454C-B2C3-466C-AB34-51DED582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7E0452B-A3DB-4912-B94E-32542F0C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5CAE728-A4D9-487C-9919-EFE923D9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2408323-6F24-4C94-8723-67B76F9B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8B30CFF-83FA-4AB1-8CFF-6CE574E0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A715D15-325E-4A08-BF89-202BEF42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85FEA-D27C-4AC4-9F2C-67799F5C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BA20232-AE22-4BEC-97AB-67AD0037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5DD1592-E266-4C94-A9B6-F8EBD3C3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58777B0-CDC7-4A65-8EA7-09EFCECB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7A8A21D-9D71-435C-B1EA-A413AA2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79D5FB7-9FD3-4DDE-B642-D1D938A5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3FDDD3F-7E7E-4917-9E67-5289DFE7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08F3A40-DE16-4A82-85DB-57E8DC8A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B406141-5D99-4504-A302-36A4CEDB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8C2CBF4-BDD7-4377-B84B-1BB4DFF5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ABECA47-7ADB-43FD-BB05-E7FD0C91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08B48-8069-4AA4-B04E-82D2992C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1031C68-820D-47D4-8552-E0957585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52E156D-4250-4739-9451-7AA0F63D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60781EA-921D-422A-81E1-B4B79AE5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2B1EC23-F4C8-439E-8FC0-D17EAAA2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4D3C22A-B900-433D-96CB-21A2FA78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65B542C-74A8-437B-967F-90D87F0D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FB7BB41-2921-45CF-9E22-E95C94AD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685F5EA-B15F-49BE-B6B0-AFD986FD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5565AD4-7BB0-4171-A892-FA1FD531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D97639C-EE9F-4F4D-B5FF-5C3A36CD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3F144-BA95-4A20-893C-1E951FAA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40D32E3-EFDF-42EE-A79B-E32B9F8B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C7C2705-627A-4330-96C5-EAC4304F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F2D54CA-3818-4ED8-BD0E-608ED01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73B821D-C171-44F4-B58D-5DCD3132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03CF911-2DFC-4626-B4C7-0DB0A1C2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43820E6-146E-4FD0-9493-12126FF0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EEC4F3C-E085-41F2-80F3-5BDAA84E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EC8CF84-69CE-4D08-9DDE-066D29FD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E24D5A4-D053-4600-B824-B8951CEE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A74F741-E433-43E1-94AF-448B6E4D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6A4C6-354C-499A-8C3F-4447C55E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E54EBE8-4773-4037-8F70-7D4DA0F4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1C514A7-18F3-430C-BBF7-BC079CFF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6C841B2-670F-43E2-9909-4C9AE11A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0D62E29-C8D8-4320-BE5D-92301143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3B068CD-6C44-42DA-AE1F-F1CD87DA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AFBC605-CC05-4134-9F52-4DDF1343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80F6DD0-E38E-4AA2-9015-0FDE6AE8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5C1C027-64CD-42CB-BBCC-4838CFD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C132ED5-1D6A-473F-9DAE-F0FBA35D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4629D69-E6A7-4B78-80B9-46D4381B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2222-1693-485E-BFA1-C884EAA6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9E4EB9B-8E04-40F9-B081-F5F07CF0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BAFC945-C2CA-4994-BB05-DB7F8801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554AB13-F881-4714-AE14-81931183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A44CCEF-FA9F-4104-AB8F-BCA7E62B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C4A9D68-686F-40D4-AB94-4A2A4ACF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0C6282F-563F-4C2A-88C8-5B9635AF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CBD37A7-23BF-42F2-9576-37C47D90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57F5017-B4A1-4D39-9910-88F31267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D69510C-1684-40C3-996C-F957E60C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0358694-82F0-4709-907C-2BE53E87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A999C-D796-4AFD-A43F-26DA476F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BFA3494-A974-48A3-B78D-F7766228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1937164-BF6B-440C-9921-54FB517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8FBAA93-3FCB-43E4-B9FE-7CF00E3A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3969B05-53F5-490C-B8D4-DD9C2172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82B3701-41F5-4FC5-BC09-545C6FE0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E6201BA-CF98-4C41-BBE0-CB4889A9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ED2D50F-2C96-43BB-835E-9A53727D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ACEEC-E15B-4254-98D0-CCD40BF0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52958-11CE-4A06-A471-4E8B37C5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C56-4E76-4637-8598-E52549E6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907E5-1BF1-4A50-8354-B7237792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BD92E-7A46-4C98-A099-A97CD026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B35BC-4A9D-49B8-B540-BD134E60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B9A16-D788-423D-8A32-DFDE0A16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303EE-B020-473C-9747-DBBB4664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BB703-C94D-4E47-9D72-188C1BDB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C0673-173F-4112-8503-22DB9871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D181F-DDE0-450F-A8B8-DEB6FDFE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5FD0E-46E3-4298-8973-27343C9F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50E01-3541-4766-853E-745DF4E0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21F2-D150-4B20-A71F-4C1912562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C994-804D-479F-9AB2-CC18BBB1B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8D41-7023-476B-B6C6-76A6A4FE2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1C7E-B446-4FCC-AD32-5FC5F2B70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FB76-E943-44CC-9195-A49D1D26E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3E0D-9835-472D-B829-8B9DA5628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20BA-1DDA-4937-A3E1-7C5B156BD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B00D-8D9F-4747-83E7-B3B639C36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F90F-2FAB-4D5D-B85D-CE62A44A3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A738-ACC0-4727-AE50-AE1A2A59A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40F8-CB85-4DE3-AE3A-D1F0C8178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0AFB-404D-47D5-872B-F2BD7630E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631B-4A3D-41F3-90CB-0EB8B6AD0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3A3D-EDCE-4D88-BD6C-FB7234BF8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D4E6-672D-462D-809D-6527A959C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8755-09B7-412C-9303-7B356E815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6904-4237-400D-9AB1-FAD335E65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0482-CA3F-4CF9-95B0-9BCE6F946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2615-6C6A-4501-BB76-61A36CE7D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6A9B-F8E2-4011-9324-3FACAF736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DD6B-B25F-49B7-A7B1-D63C535C0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48C7-5E0D-4843-8527-35A519610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4833-8E23-44BD-B494-CD7A893CF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4A8-5374-4E09-BEF6-52848235E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CA92-7818-4172-99AE-F50BA7559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A095-89D1-4FE8-9080-306C06CD1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6B1-58DB-4E09-A34F-48A39AE04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51AB-0776-45FB-8319-FD38F39EB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05A2-F644-47AA-A110-D0B6F13E6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457B-F853-4AE6-8F4D-40AE55449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57D0-EA48-4250-ADC8-9AC956828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F5CC-B54C-4618-83F4-114E79DCA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70DE-5A17-44A3-A3DE-C5F7CC562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0EAF-EAFD-43F1-BFE0-D4F371E01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6EB0-6A2B-4288-8A5A-85F4EB10B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50EA-D8DE-4F4B-8E1C-F17A53F68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21AD-D2B2-4108-9040-49837D468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AB44-521B-4C44-B62B-AEBF193A1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738C-E07D-4CC1-902A-B2BEACFF8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2C8E-3696-4E48-94F1-FA4C12858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9FDB-D06F-45C0-BCF3-EF7002D91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E1AC-E599-43D6-85DD-820F39D35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F200-7AEF-41F7-862A-701FCE85C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5E49-2603-4729-9477-C2E7BC39B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0173-66B1-4AA5-915F-F4F343409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0609-C7B0-4168-A60F-16892B866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CF8A-0697-49EB-8995-1E78EE01E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DC7B-1D2A-40D6-A13C-8FDF3DFEB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29A7-D94A-4450-8865-EEBCF1E19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08C1-378C-4F1C-BB38-B3860E5EE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B918-F06E-4F51-9F0B-D6C81DF01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C1FE-A76F-4B50-A4BE-19AF1E819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D9BD-6D6C-48AD-8862-332D4BAA7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38CE-C437-4DD2-AA3B-E81644A3F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9C7D-8B6A-40B1-BA66-6D564F9A3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2B97-F439-4194-9B66-FA2E6A7FE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FC0-2855-4F0F-95B6-07C33480A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C62D-4FF2-43D9-B964-76AEFE528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5B8E-6A02-4B76-86B7-954443357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24C7-B9E0-4338-80B8-73F5B95F7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7D6-50F6-4A27-9EAF-657BAB0A8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12E4-786E-4FD3-A03A-2AB27DA71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2910-50A8-4FC1-AA8E-1F0AAA201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B9B1-A0CD-48BB-BBCB-1B6770291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AB82-904E-4B83-BCC5-A3E3AA74A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1491-A4B0-405A-AE63-D0BDDDF87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0DAD-2D30-4526-AB76-1822521A5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93C4-9696-4D00-8148-46259FAAD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CAD5-10DE-4512-BDE0-E23E25E62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F223-6FF4-4FBE-B4FC-D12C21312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71EC-4085-42B9-9F4B-E2BC5DFCE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D1D9-EFD8-4367-B3C1-68B3350FD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2BD0-5ABB-4C19-8E0A-1E3CDD81C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6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 and Rotation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0" name="Group 3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211" name="Group 4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212" name="AutoShape 5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AutoShape 6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AutoShape 7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AutoShape 8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AutoShape 9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218" name="AutoShape 11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AutoShape 12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AutoShape 13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AutoShape 14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AutoShape 15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224" name="AutoShape 17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AutoShape 18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AutoShape 19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AutoShape 20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AutoShape 21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230" name="AutoShape 23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AutoShape 24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AutoShape 25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AutoShape 26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AutoShape 27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5" name="Group 28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236" name="AutoShape 29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AutoShape 30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AutoShape 31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AutoShape 32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AutoShape 33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1" name="AutoShape 34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AutoShape 35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AutoShape 36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AutoShape 37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AutoShape 38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AutoShape 39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AutoShape 40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AutoShape 41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9" name="Group 42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250" name="Group 43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251" name="AutoShape 44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AutoShape 45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AutoShape 46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AutoShape 47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AutoShape 48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Group 49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257" name="AutoShape 50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AutoShape 51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AutoShape 52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AutoShape 53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AutoShape 54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2" name="Group 55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263" name="AutoShape 56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AutoShape 57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AutoShape 58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AutoShape 59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AutoShape 60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8" name="Group 61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269" name="AutoShape 62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AutoShape 63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AutoShape 64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AutoShape 65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AutoShape 66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4" name="Group 67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275" name="AutoShape 68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AutoShape 69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AutoShape 70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AutoShape 71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AutoShape 72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0" name="AutoShape 73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AutoShape 74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AutoShape 75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AutoShape 76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AutoShape 77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AutoShape 78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AutoShape 79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AutoShape 80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8" name="Group 81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289" name="Group 82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290" name="AutoShape 83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AutoShape 84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AutoShape 85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AutoShape 86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4" name="Group 87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295" name="AutoShape 88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AutoShape 89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AutoShape 90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AutoShape 91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AutoShape 92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0" name="Group 93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301" name="AutoShape 94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AutoShape 95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AutoShape 96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AutoShape 97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AutoShape 98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6" name="Group 99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307" name="AutoShape 100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AutoShape 101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AutoShape 102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AutoShape 103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AutoShape 104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12" name="AutoShape 105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AutoShape 106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AutoShape 107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AutoShape 108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6" name="Group 109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317" name="Group 110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318" name="AutoShape 111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AutoShape 112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AutoShape 113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AutoShape 114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2" name="Group 115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323" name="AutoShape 116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AutoShape 117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AutoShape 118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AutoShape 119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AutoShape 120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8" name="Group 121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329" name="AutoShape 122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AutoShape 123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AutoShape 124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AutoShape 125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AutoShape 126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4" name="Group 127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335" name="AutoShape 128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AutoShape 129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AutoShape 130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AutoShape 131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AutoShape 132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0" name="AutoShape 133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AutoShape 134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AutoShape 135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AutoShape 136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4" name="Text Box 139"/>
          <p:cNvSpPr/>
          <p:nvPr/>
        </p:nvSpPr>
        <p:spPr>
          <a:xfrm>
            <a:off x="6207120" y="328788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Text Box 140"/>
          <p:cNvSpPr/>
          <p:nvPr/>
        </p:nvSpPr>
        <p:spPr>
          <a:xfrm>
            <a:off x="5583240" y="55040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Text Box 141"/>
          <p:cNvSpPr/>
          <p:nvPr/>
        </p:nvSpPr>
        <p:spPr>
          <a:xfrm>
            <a:off x="2865600" y="551016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Text Box 142"/>
          <p:cNvSpPr/>
          <p:nvPr/>
        </p:nvSpPr>
        <p:spPr>
          <a:xfrm>
            <a:off x="2149560" y="324180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Text Box 143"/>
          <p:cNvSpPr/>
          <p:nvPr/>
        </p:nvSpPr>
        <p:spPr>
          <a:xfrm>
            <a:off x="4175280" y="181944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9" name="Group 144"/>
          <p:cNvGrpSpPr/>
          <p:nvPr/>
        </p:nvGrpSpPr>
        <p:grpSpPr>
          <a:xfrm>
            <a:off x="2781360" y="2281320"/>
            <a:ext cx="3370320" cy="3370320"/>
            <a:chOff x="2781360" y="2281320"/>
            <a:chExt cx="3370320" cy="3370320"/>
          </a:xfrm>
        </p:grpSpPr>
        <p:sp>
          <p:nvSpPr>
            <p:cNvPr id="3350" name="Oval 145"/>
            <p:cNvSpPr/>
            <p:nvPr/>
          </p:nvSpPr>
          <p:spPr>
            <a:xfrm>
              <a:off x="2781360" y="2281320"/>
              <a:ext cx="3370320" cy="337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1" name="Group 146"/>
            <p:cNvGrpSpPr/>
            <p:nvPr/>
          </p:nvGrpSpPr>
          <p:grpSpPr>
            <a:xfrm>
              <a:off x="2853000" y="2310120"/>
              <a:ext cx="3211560" cy="3057120"/>
              <a:chOff x="2853000" y="2310120"/>
              <a:chExt cx="3211560" cy="3057120"/>
            </a:xfrm>
          </p:grpSpPr>
          <p:sp>
            <p:nvSpPr>
              <p:cNvPr id="3352" name="AutoShape 147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AutoShape 148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Line 149"/>
              <p:cNvSpPr/>
              <p:nvPr/>
            </p:nvSpPr>
            <p:spPr>
              <a:xfrm>
                <a:off x="2858040" y="3476880"/>
                <a:ext cx="32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Line 150"/>
              <p:cNvSpPr/>
              <p:nvPr/>
            </p:nvSpPr>
            <p:spPr>
              <a:xfrm>
                <a:off x="2853000" y="3481560"/>
                <a:ext cx="2590920" cy="18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Line 151"/>
              <p:cNvSpPr/>
              <p:nvPr/>
            </p:nvSpPr>
            <p:spPr>
              <a:xfrm flipH="1">
                <a:off x="3478320" y="3478320"/>
                <a:ext cx="2584440" cy="18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Line 152"/>
              <p:cNvSpPr/>
              <p:nvPr/>
            </p:nvSpPr>
            <p:spPr>
              <a:xfrm flipH="1" flipV="1">
                <a:off x="4459320" y="2316240"/>
                <a:ext cx="979560" cy="30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Line 153"/>
              <p:cNvSpPr/>
              <p:nvPr/>
            </p:nvSpPr>
            <p:spPr>
              <a:xfrm flipV="1">
                <a:off x="3486600" y="2311200"/>
                <a:ext cx="974520" cy="303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Freeform 154"/>
              <p:cNvSpPr/>
              <p:nvPr/>
            </p:nvSpPr>
            <p:spPr>
              <a:xfrm>
                <a:off x="3853080" y="3476880"/>
                <a:ext cx="1209960" cy="1171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Freeform 155"/>
              <p:cNvSpPr/>
              <p:nvPr/>
            </p:nvSpPr>
            <p:spPr>
              <a:xfrm>
                <a:off x="4086720" y="2314800"/>
                <a:ext cx="749160" cy="115848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Freeform 156"/>
              <p:cNvSpPr/>
              <p:nvPr/>
            </p:nvSpPr>
            <p:spPr>
              <a:xfrm>
                <a:off x="4835880" y="3470400"/>
                <a:ext cx="1228680" cy="72684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Freeform 157"/>
              <p:cNvSpPr/>
              <p:nvPr/>
            </p:nvSpPr>
            <p:spPr>
              <a:xfrm>
                <a:off x="4467600" y="4206960"/>
                <a:ext cx="971640" cy="115236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Freeform 158"/>
              <p:cNvSpPr/>
              <p:nvPr/>
            </p:nvSpPr>
            <p:spPr>
              <a:xfrm>
                <a:off x="3480120" y="4203720"/>
                <a:ext cx="981000" cy="115560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Freeform 159"/>
              <p:cNvSpPr/>
              <p:nvPr/>
            </p:nvSpPr>
            <p:spPr>
              <a:xfrm>
                <a:off x="2858040" y="3473640"/>
                <a:ext cx="1222200" cy="732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Freeform 160"/>
              <p:cNvSpPr/>
              <p:nvPr/>
            </p:nvSpPr>
            <p:spPr>
              <a:xfrm>
                <a:off x="4462920" y="2310120"/>
                <a:ext cx="1595520" cy="1157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Freeform 161"/>
              <p:cNvSpPr/>
              <p:nvPr/>
            </p:nvSpPr>
            <p:spPr>
              <a:xfrm>
                <a:off x="5072400" y="3471840"/>
                <a:ext cx="990720" cy="188568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Freeform 162"/>
              <p:cNvSpPr/>
              <p:nvPr/>
            </p:nvSpPr>
            <p:spPr>
              <a:xfrm>
                <a:off x="3481920" y="4653000"/>
                <a:ext cx="1957320" cy="71424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Freeform 163"/>
              <p:cNvSpPr/>
              <p:nvPr/>
            </p:nvSpPr>
            <p:spPr>
              <a:xfrm>
                <a:off x="2862720" y="3476880"/>
                <a:ext cx="985680" cy="188064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Freeform 164"/>
              <p:cNvSpPr/>
              <p:nvPr/>
            </p:nvSpPr>
            <p:spPr>
              <a:xfrm>
                <a:off x="2862720" y="2310120"/>
                <a:ext cx="1590480" cy="116676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0" name="Group 187"/>
          <p:cNvGrpSpPr/>
          <p:nvPr/>
        </p:nvGrpSpPr>
        <p:grpSpPr>
          <a:xfrm>
            <a:off x="2725560" y="2246400"/>
            <a:ext cx="3493800" cy="3493800"/>
            <a:chOff x="2725560" y="2246400"/>
            <a:chExt cx="3493800" cy="3493800"/>
          </a:xfrm>
        </p:grpSpPr>
        <p:grpSp>
          <p:nvGrpSpPr>
            <p:cNvPr id="3371" name="Group 165"/>
            <p:cNvGrpSpPr/>
            <p:nvPr/>
          </p:nvGrpSpPr>
          <p:grpSpPr>
            <a:xfrm>
              <a:off x="2725560" y="2246400"/>
              <a:ext cx="3493800" cy="3493800"/>
              <a:chOff x="2725560" y="2246400"/>
              <a:chExt cx="3493800" cy="3493800"/>
            </a:xfrm>
          </p:grpSpPr>
          <p:sp>
            <p:nvSpPr>
              <p:cNvPr id="3372" name="Oval 166"/>
              <p:cNvSpPr/>
              <p:nvPr/>
            </p:nvSpPr>
            <p:spPr>
              <a:xfrm>
                <a:off x="2725560" y="2246400"/>
                <a:ext cx="3493800" cy="3493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3" name="Group 167"/>
              <p:cNvGrpSpPr/>
              <p:nvPr/>
            </p:nvGrpSpPr>
            <p:grpSpPr>
              <a:xfrm>
                <a:off x="2799720" y="2275920"/>
                <a:ext cx="3328920" cy="3169440"/>
                <a:chOff x="2799720" y="2275920"/>
                <a:chExt cx="3328920" cy="3169440"/>
              </a:xfrm>
            </p:grpSpPr>
            <p:sp>
              <p:nvSpPr>
                <p:cNvPr id="3374" name="AutoShape 168"/>
                <p:cNvSpPr/>
                <p:nvPr/>
              </p:nvSpPr>
              <p:spPr>
                <a:xfrm>
                  <a:off x="2804760" y="2280960"/>
                  <a:ext cx="3323880" cy="3159000"/>
                </a:xfrm>
                <a:prstGeom prst="pentagon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AutoShape 169"/>
                <p:cNvSpPr/>
                <p:nvPr/>
              </p:nvSpPr>
              <p:spPr>
                <a:xfrm>
                  <a:off x="2804760" y="2280960"/>
                  <a:ext cx="3323880" cy="3159000"/>
                </a:xfrm>
                <a:prstGeom prst="pentagon">
                  <a:avLst/>
                </a:prstGeom>
                <a:solidFill>
                  <a:srgbClr val="edbfe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Line 170"/>
                <p:cNvSpPr/>
                <p:nvPr/>
              </p:nvSpPr>
              <p:spPr>
                <a:xfrm>
                  <a:off x="2804760" y="3485520"/>
                  <a:ext cx="3322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Line 171"/>
                <p:cNvSpPr/>
                <p:nvPr/>
              </p:nvSpPr>
              <p:spPr>
                <a:xfrm>
                  <a:off x="2799720" y="3490560"/>
                  <a:ext cx="2685600" cy="19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Line 172"/>
                <p:cNvSpPr/>
                <p:nvPr/>
              </p:nvSpPr>
              <p:spPr>
                <a:xfrm flipH="1">
                  <a:off x="3448080" y="3486960"/>
                  <a:ext cx="2679120" cy="195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Line 173"/>
                <p:cNvSpPr/>
                <p:nvPr/>
              </p:nvSpPr>
              <p:spPr>
                <a:xfrm flipH="1" flipV="1">
                  <a:off x="4465080" y="2282400"/>
                  <a:ext cx="1015200" cy="315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Line 174"/>
                <p:cNvSpPr/>
                <p:nvPr/>
              </p:nvSpPr>
              <p:spPr>
                <a:xfrm flipV="1">
                  <a:off x="3456360" y="2277720"/>
                  <a:ext cx="1010160" cy="314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Freeform 175"/>
                <p:cNvSpPr/>
                <p:nvPr/>
              </p:nvSpPr>
              <p:spPr>
                <a:xfrm>
                  <a:off x="3836160" y="3485520"/>
                  <a:ext cx="1254240" cy="1214280"/>
                </a:xfrm>
                <a:custGeom>
                  <a:avLst/>
                  <a:gdLst/>
                  <a:ahLst/>
                  <a:rect l="l" t="t" r="r" b="b"/>
                  <a:pathLst>
                    <a:path w="762" h="738">
                      <a:moveTo>
                        <a:pt x="141" y="0"/>
                      </a:moveTo>
                      <a:lnTo>
                        <a:pt x="615" y="0"/>
                      </a:lnTo>
                      <a:lnTo>
                        <a:pt x="762" y="456"/>
                      </a:lnTo>
                      <a:lnTo>
                        <a:pt x="384" y="738"/>
                      </a:lnTo>
                      <a:lnTo>
                        <a:pt x="0" y="459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Freeform 176"/>
                <p:cNvSpPr/>
                <p:nvPr/>
              </p:nvSpPr>
              <p:spPr>
                <a:xfrm>
                  <a:off x="4078440" y="2280960"/>
                  <a:ext cx="776520" cy="1200960"/>
                </a:xfrm>
                <a:custGeom>
                  <a:avLst/>
                  <a:gdLst/>
                  <a:ahLst/>
                  <a:rect l="l" t="t" r="r" b="b"/>
                  <a:pathLst>
                    <a:path w="472" h="730">
                      <a:moveTo>
                        <a:pt x="0" y="730"/>
                      </a:moveTo>
                      <a:lnTo>
                        <a:pt x="232" y="0"/>
                      </a:lnTo>
                      <a:lnTo>
                        <a:pt x="472" y="728"/>
                      </a:lnTo>
                      <a:lnTo>
                        <a:pt x="0" y="7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Freeform 177"/>
                <p:cNvSpPr/>
                <p:nvPr/>
              </p:nvSpPr>
              <p:spPr>
                <a:xfrm>
                  <a:off x="4854960" y="3479040"/>
                  <a:ext cx="1273680" cy="753480"/>
                </a:xfrm>
                <a:custGeom>
                  <a:avLst/>
                  <a:gdLst/>
                  <a:ahLst/>
                  <a:rect l="l" t="t" r="r" b="b"/>
                  <a:pathLst>
                    <a:path w="774" h="458">
                      <a:moveTo>
                        <a:pt x="0" y="0"/>
                      </a:moveTo>
                      <a:lnTo>
                        <a:pt x="774" y="0"/>
                      </a:lnTo>
                      <a:lnTo>
                        <a:pt x="148" y="4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Freeform 178"/>
                <p:cNvSpPr/>
                <p:nvPr/>
              </p:nvSpPr>
              <p:spPr>
                <a:xfrm>
                  <a:off x="4473360" y="4242240"/>
                  <a:ext cx="1006920" cy="1194840"/>
                </a:xfrm>
                <a:custGeom>
                  <a:avLst/>
                  <a:gdLst/>
                  <a:ahLst/>
                  <a:rect l="l" t="t" r="r" b="b"/>
                  <a:pathLst>
                    <a:path w="612" h="726">
                      <a:moveTo>
                        <a:pt x="612" y="726"/>
                      </a:moveTo>
                      <a:lnTo>
                        <a:pt x="0" y="278"/>
                      </a:lnTo>
                      <a:lnTo>
                        <a:pt x="382" y="0"/>
                      </a:lnTo>
                      <a:lnTo>
                        <a:pt x="612" y="7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Freeform 179"/>
                <p:cNvSpPr/>
                <p:nvPr/>
              </p:nvSpPr>
              <p:spPr>
                <a:xfrm>
                  <a:off x="3449520" y="4239000"/>
                  <a:ext cx="1016640" cy="1198080"/>
                </a:xfrm>
                <a:custGeom>
                  <a:avLst/>
                  <a:gdLst/>
                  <a:ahLst/>
                  <a:rect l="l" t="t" r="r" b="b"/>
                  <a:pathLst>
                    <a:path w="618" h="728">
                      <a:moveTo>
                        <a:pt x="234" y="0"/>
                      </a:moveTo>
                      <a:lnTo>
                        <a:pt x="0" y="728"/>
                      </a:lnTo>
                      <a:lnTo>
                        <a:pt x="618" y="280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Freeform 180"/>
                <p:cNvSpPr/>
                <p:nvPr/>
              </p:nvSpPr>
              <p:spPr>
                <a:xfrm>
                  <a:off x="2804760" y="3482280"/>
                  <a:ext cx="1266840" cy="759960"/>
                </a:xfrm>
                <a:custGeom>
                  <a:avLst/>
                  <a:gdLst/>
                  <a:ahLst/>
                  <a:rect l="l" t="t" r="r" b="b"/>
                  <a:pathLst>
                    <a:path w="770" h="462">
                      <a:moveTo>
                        <a:pt x="770" y="0"/>
                      </a:moveTo>
                      <a:lnTo>
                        <a:pt x="0" y="2"/>
                      </a:lnTo>
                      <a:lnTo>
                        <a:pt x="626" y="462"/>
                      </a:lnTo>
                      <a:lnTo>
                        <a:pt x="7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Freeform 181"/>
                <p:cNvSpPr/>
                <p:nvPr/>
              </p:nvSpPr>
              <p:spPr>
                <a:xfrm>
                  <a:off x="4468320" y="2275920"/>
                  <a:ext cx="1653840" cy="1199520"/>
                </a:xfrm>
                <a:custGeom>
                  <a:avLst/>
                  <a:gdLst/>
                  <a:ahLst/>
                  <a:rect l="l" t="t" r="r" b="b"/>
                  <a:pathLst>
                    <a:path w="1005" h="729">
                      <a:moveTo>
                        <a:pt x="1005" y="729"/>
                      </a:moveTo>
                      <a:lnTo>
                        <a:pt x="240" y="729"/>
                      </a:lnTo>
                      <a:lnTo>
                        <a:pt x="0" y="0"/>
                      </a:lnTo>
                      <a:lnTo>
                        <a:pt x="1005" y="7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Freeform 182"/>
                <p:cNvSpPr/>
                <p:nvPr/>
              </p:nvSpPr>
              <p:spPr>
                <a:xfrm>
                  <a:off x="5100120" y="3480480"/>
                  <a:ext cx="1026720" cy="1954800"/>
                </a:xfrm>
                <a:custGeom>
                  <a:avLst/>
                  <a:gdLst/>
                  <a:ahLst/>
                  <a:rect l="l" t="t" r="r" b="b"/>
                  <a:pathLst>
                    <a:path w="624" h="1188">
                      <a:moveTo>
                        <a:pt x="624" y="0"/>
                      </a:moveTo>
                      <a:lnTo>
                        <a:pt x="228" y="1188"/>
                      </a:lnTo>
                      <a:lnTo>
                        <a:pt x="0" y="462"/>
                      </a:lnTo>
                      <a:lnTo>
                        <a:pt x="6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Freeform 183"/>
                <p:cNvSpPr/>
                <p:nvPr/>
              </p:nvSpPr>
              <p:spPr>
                <a:xfrm>
                  <a:off x="3451680" y="4704840"/>
                  <a:ext cx="2028960" cy="740520"/>
                </a:xfrm>
                <a:custGeom>
                  <a:avLst/>
                  <a:gdLst/>
                  <a:ahLst/>
                  <a:rect l="l" t="t" r="r" b="b"/>
                  <a:pathLst>
                    <a:path w="1233" h="450">
                      <a:moveTo>
                        <a:pt x="0" y="450"/>
                      </a:moveTo>
                      <a:lnTo>
                        <a:pt x="1233" y="450"/>
                      </a:lnTo>
                      <a:lnTo>
                        <a:pt x="621" y="0"/>
                      </a:lnTo>
                      <a:lnTo>
                        <a:pt x="0" y="4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Freeform 184"/>
                <p:cNvSpPr/>
                <p:nvPr/>
              </p:nvSpPr>
              <p:spPr>
                <a:xfrm>
                  <a:off x="2809440" y="3485520"/>
                  <a:ext cx="1021680" cy="1949760"/>
                </a:xfrm>
                <a:custGeom>
                  <a:avLst/>
                  <a:gdLst/>
                  <a:ahLst/>
                  <a:rect l="l" t="t" r="r" b="b"/>
                  <a:pathLst>
                    <a:path w="621" h="1185">
                      <a:moveTo>
                        <a:pt x="0" y="0"/>
                      </a:moveTo>
                      <a:lnTo>
                        <a:pt x="621" y="459"/>
                      </a:lnTo>
                      <a:lnTo>
                        <a:pt x="390" y="11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Freeform 185"/>
                <p:cNvSpPr/>
                <p:nvPr/>
              </p:nvSpPr>
              <p:spPr>
                <a:xfrm>
                  <a:off x="2809440" y="2275920"/>
                  <a:ext cx="1648440" cy="1209600"/>
                </a:xfrm>
                <a:custGeom>
                  <a:avLst/>
                  <a:gdLst/>
                  <a:ahLst/>
                  <a:rect l="l" t="t" r="r" b="b"/>
                  <a:pathLst>
                    <a:path w="1002" h="735">
                      <a:moveTo>
                        <a:pt x="0" y="732"/>
                      </a:moveTo>
                      <a:lnTo>
                        <a:pt x="1002" y="0"/>
                      </a:lnTo>
                      <a:lnTo>
                        <a:pt x="768" y="735"/>
                      </a:lnTo>
                      <a:lnTo>
                        <a:pt x="0" y="7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2" name="Oval 186"/>
            <p:cNvSpPr/>
            <p:nvPr/>
          </p:nvSpPr>
          <p:spPr>
            <a:xfrm>
              <a:off x="4376880" y="2614680"/>
              <a:ext cx="158760" cy="15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3" name="Text Box 188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Text Box 189"/>
          <p:cNvSpPr/>
          <p:nvPr/>
        </p:nvSpPr>
        <p:spPr>
          <a:xfrm>
            <a:off x="3944880" y="556740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Text Box 190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">
                                      <p:cBhvr>
                                        <p:cTn id="66" dur="2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73" dur="2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80" dur="2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87" dur="2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">
                                      <p:cBhvr>
                                        <p:cTn id="94" dur="2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6" name="Group 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397" name="Group 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398" name="AutoShape 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AutoShape 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AutoShape 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AutoShape 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AutoShape 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3" name="Group 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404" name="AutoShape 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AutoShape 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AutoShape 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AutoShape 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AutoShape 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9" name="Group 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410" name="AutoShape 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AutoShape 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AutoShape 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AutoShape 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AutoShape 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5" name="Group 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416" name="AutoShape 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AutoShape 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AutoShape 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AutoShape 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AutoShape 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1" name="Group 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422" name="AutoShape 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AutoShape 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AutoShape 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AutoShape 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AutoShape 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7" name="AutoShape 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AutoShape 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AutoShape 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AutoShape 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AutoShape 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AutoShape 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AutoShape 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AutoShape 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5" name="Group 4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436" name="Group 4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437" name="AutoShape 4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AutoShape 4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AutoShape 4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AutoShape 4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AutoShape 4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2" name="Group 4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443" name="AutoShape 4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AutoShape 5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AutoShape 5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AutoShape 5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AutoShape 5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8" name="Group 5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449" name="AutoShape 5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AutoShape 5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AutoShape 5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AutoShape 5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AutoShape 5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4" name="Group 6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455" name="AutoShape 6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AutoShape 6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AutoShape 6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AutoShape 6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AutoShape 6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0" name="Group 6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461" name="AutoShape 6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AutoShape 6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AutoShape 6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AutoShape 7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AutoShape 7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6" name="AutoShape 7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AutoShape 7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AutoShape 7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AutoShape 7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AutoShape 7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AutoShape 7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AutoShape 7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AutoShape 7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4" name="Group 8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475" name="Group 8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476" name="AutoShape 8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AutoShape 8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AutoShape 8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AutoShape 8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0" name="Group 8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481" name="AutoShape 8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AutoShape 8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AutoShape 8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AutoShape 9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AutoShape 9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6" name="Group 9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487" name="AutoShape 9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AutoShape 9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AutoShape 9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AutoShape 9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AutoShape 9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2" name="Group 9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493" name="AutoShape 9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AutoShape 10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AutoShape 10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AutoShape 10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AutoShape 10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98" name="AutoShape 10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AutoShape 10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AutoShape 10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AutoShape 10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2" name="Group 10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503" name="Group 10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504" name="AutoShape 11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AutoShape 11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AutoShape 11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AutoShape 11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8" name="Group 11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509" name="AutoShape 11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AutoShape 11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AutoShape 11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AutoShape 11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AutoShape 11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4" name="Group 12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515" name="AutoShape 12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AutoShape 12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AutoShape 12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AutoShape 12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AutoShape 12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0" name="Group 12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521" name="AutoShape 12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AutoShape 12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AutoShape 12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AutoShape 13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AutoShape 13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26" name="AutoShape 13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AutoShape 13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AutoShape 13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AutoShape 13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0" name="Text Box 141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Text Box 143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2" name="Group 144"/>
          <p:cNvGrpSpPr/>
          <p:nvPr/>
        </p:nvGrpSpPr>
        <p:grpSpPr>
          <a:xfrm>
            <a:off x="3097080" y="2530440"/>
            <a:ext cx="2678040" cy="2677680"/>
            <a:chOff x="3097080" y="2530440"/>
            <a:chExt cx="2678040" cy="2677680"/>
          </a:xfrm>
        </p:grpSpPr>
        <p:sp>
          <p:nvSpPr>
            <p:cNvPr id="3533" name="Freeform 145"/>
            <p:cNvSpPr/>
            <p:nvPr/>
          </p:nvSpPr>
          <p:spPr>
            <a:xfrm>
              <a:off x="3332520" y="2569320"/>
              <a:ext cx="2246400" cy="26074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f9738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Oval 146"/>
            <p:cNvSpPr/>
            <p:nvPr/>
          </p:nvSpPr>
          <p:spPr>
            <a:xfrm>
              <a:off x="3097080" y="2530440"/>
              <a:ext cx="2678040" cy="2677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5" name="Group 148"/>
          <p:cNvGrpSpPr/>
          <p:nvPr/>
        </p:nvGrpSpPr>
        <p:grpSpPr>
          <a:xfrm>
            <a:off x="3086280" y="2502000"/>
            <a:ext cx="2734560" cy="2734920"/>
            <a:chOff x="3086280" y="2502000"/>
            <a:chExt cx="2734560" cy="2734920"/>
          </a:xfrm>
        </p:grpSpPr>
        <p:sp>
          <p:nvSpPr>
            <p:cNvPr id="3536" name="Freeform 149"/>
            <p:cNvSpPr/>
            <p:nvPr/>
          </p:nvSpPr>
          <p:spPr>
            <a:xfrm>
              <a:off x="3326760" y="2541960"/>
              <a:ext cx="2293560" cy="26632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Oval 150"/>
            <p:cNvSpPr/>
            <p:nvPr/>
          </p:nvSpPr>
          <p:spPr>
            <a:xfrm>
              <a:off x="3086280" y="2502000"/>
              <a:ext cx="2734560" cy="273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8" name="Oval 151"/>
          <p:cNvSpPr/>
          <p:nvPr/>
        </p:nvSpPr>
        <p:spPr>
          <a:xfrm>
            <a:off x="4365720" y="2844720"/>
            <a:ext cx="190440" cy="19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9" name="Group 2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540" name="Group 3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541" name="AutoShape 4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AutoShape 5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AutoShape 6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AutoShape 7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AutoShape 8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6" name="Group 9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547" name="AutoShape 10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AutoShape 11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AutoShape 12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AutoShape 13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AutoShape 14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2" name="Group 15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553" name="AutoShape 16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AutoShape 17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AutoShape 18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AutoShape 19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AutoShape 20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8" name="Group 21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559" name="AutoShape 22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AutoShape 23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AutoShape 24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AutoShape 25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AutoShape 26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4" name="Group 27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565" name="AutoShape 28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AutoShape 29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AutoShape 30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AutoShape 31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AutoShape 32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0" name="AutoShape 33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AutoShape 34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AutoShape 35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AutoShape 36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AutoShape 37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AutoShape 38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AutoShape 39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AutoShape 40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8" name="Group 41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579" name="Group 42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580" name="AutoShape 43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AutoShape 44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AutoShape 45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AutoShape 46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AutoShape 47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5" name="Group 48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586" name="AutoShape 49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AutoShape 50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AutoShape 51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AutoShape 52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AutoShape 53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1" name="Group 54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592" name="AutoShape 55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AutoShape 56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AutoShape 57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AutoShape 58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AutoShape 59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7" name="Group 60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598" name="AutoShape 61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AutoShape 62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AutoShape 63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AutoShape 64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AutoShape 65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3" name="Group 66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604" name="AutoShape 67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AutoShape 68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AutoShape 69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AutoShape 70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AutoShape 71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9" name="AutoShape 72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AutoShape 73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AutoShape 74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AutoShape 75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AutoShape 76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AutoShape 77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AutoShape 78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AutoShape 79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7" name="Group 80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618" name="Group 81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619" name="AutoShape 82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AutoShape 83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AutoShape 84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AutoShape 85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3" name="Group 86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624" name="AutoShape 87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AutoShape 88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AutoShape 89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AutoShape 90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AutoShape 91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9" name="Group 92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630" name="AutoShape 93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AutoShape 94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AutoShape 95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AutoShape 96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AutoShape 97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5" name="Group 98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636" name="AutoShape 99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AutoShape 100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AutoShape 101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9" name="AutoShape 102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AutoShape 103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1" name="AutoShape 104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AutoShape 105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AutoShape 106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AutoShape 107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5" name="Group 108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646" name="Group 109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647" name="AutoShape 110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AutoShape 111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AutoShape 112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AutoShape 113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1" name="Group 114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652" name="AutoShape 115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AutoShape 116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AutoShape 117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AutoShape 118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AutoShape 119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7" name="Group 120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658" name="AutoShape 121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AutoShape 122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AutoShape 123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AutoShape 124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AutoShape 125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3" name="Group 126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664" name="AutoShape 127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AutoShape 128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AutoShape 129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AutoShape 130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AutoShape 131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9" name="AutoShape 132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AutoShape 133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AutoShape 134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AutoShape 135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3" name="Text Box 136"/>
          <p:cNvSpPr/>
          <p:nvPr/>
        </p:nvSpPr>
        <p:spPr>
          <a:xfrm>
            <a:off x="5778360" y="29354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Text Box 137"/>
          <p:cNvSpPr/>
          <p:nvPr/>
        </p:nvSpPr>
        <p:spPr>
          <a:xfrm>
            <a:off x="5678640" y="453240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Text Box 138"/>
          <p:cNvSpPr/>
          <p:nvPr/>
        </p:nvSpPr>
        <p:spPr>
          <a:xfrm>
            <a:off x="4227480" y="530064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Text Box 139"/>
          <p:cNvSpPr/>
          <p:nvPr/>
        </p:nvSpPr>
        <p:spPr>
          <a:xfrm>
            <a:off x="2664000" y="459432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Text Box 140"/>
          <p:cNvSpPr/>
          <p:nvPr/>
        </p:nvSpPr>
        <p:spPr>
          <a:xfrm>
            <a:off x="2575080" y="2838600"/>
            <a:ext cx="5299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Text Box 185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Text Box 186"/>
          <p:cNvSpPr/>
          <p:nvPr/>
        </p:nvSpPr>
        <p:spPr>
          <a:xfrm>
            <a:off x="3983040" y="575784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Text Box 187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1" name="Group 188"/>
          <p:cNvGrpSpPr/>
          <p:nvPr/>
        </p:nvGrpSpPr>
        <p:grpSpPr>
          <a:xfrm>
            <a:off x="3097080" y="2530440"/>
            <a:ext cx="2678040" cy="2677680"/>
            <a:chOff x="3097080" y="2530440"/>
            <a:chExt cx="2678040" cy="2677680"/>
          </a:xfrm>
        </p:grpSpPr>
        <p:sp>
          <p:nvSpPr>
            <p:cNvPr id="3682" name="Freeform 189"/>
            <p:cNvSpPr/>
            <p:nvPr/>
          </p:nvSpPr>
          <p:spPr>
            <a:xfrm>
              <a:off x="3332520" y="2569320"/>
              <a:ext cx="2246400" cy="2607480"/>
            </a:xfrm>
            <a:custGeom>
              <a:avLst/>
              <a:gdLst/>
              <a:ahLst/>
              <a:rect l="l" t="t" r="r" b="b"/>
              <a:pathLst>
                <a:path w="1144" h="1328">
                  <a:moveTo>
                    <a:pt x="4" y="992"/>
                  </a:moveTo>
                  <a:lnTo>
                    <a:pt x="276" y="664"/>
                  </a:lnTo>
                  <a:lnTo>
                    <a:pt x="0" y="328"/>
                  </a:lnTo>
                  <a:lnTo>
                    <a:pt x="424" y="412"/>
                  </a:lnTo>
                  <a:lnTo>
                    <a:pt x="568" y="0"/>
                  </a:lnTo>
                  <a:lnTo>
                    <a:pt x="716" y="408"/>
                  </a:lnTo>
                  <a:lnTo>
                    <a:pt x="1144" y="332"/>
                  </a:lnTo>
                  <a:lnTo>
                    <a:pt x="860" y="664"/>
                  </a:lnTo>
                  <a:lnTo>
                    <a:pt x="1140" y="992"/>
                  </a:lnTo>
                  <a:lnTo>
                    <a:pt x="720" y="916"/>
                  </a:lnTo>
                  <a:lnTo>
                    <a:pt x="572" y="1328"/>
                  </a:lnTo>
                  <a:lnTo>
                    <a:pt x="424" y="912"/>
                  </a:lnTo>
                  <a:lnTo>
                    <a:pt x="4" y="992"/>
                  </a:lnTo>
                  <a:close/>
                </a:path>
              </a:pathLst>
            </a:custGeom>
            <a:solidFill>
              <a:srgbClr val="f9738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Oval 190"/>
            <p:cNvSpPr/>
            <p:nvPr/>
          </p:nvSpPr>
          <p:spPr>
            <a:xfrm>
              <a:off x="3097080" y="2530440"/>
              <a:ext cx="2678040" cy="2677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4" name="Group 195"/>
          <p:cNvGrpSpPr/>
          <p:nvPr/>
        </p:nvGrpSpPr>
        <p:grpSpPr>
          <a:xfrm>
            <a:off x="3086280" y="2502000"/>
            <a:ext cx="2734560" cy="2734920"/>
            <a:chOff x="3086280" y="2502000"/>
            <a:chExt cx="2734560" cy="2734920"/>
          </a:xfrm>
        </p:grpSpPr>
        <p:grpSp>
          <p:nvGrpSpPr>
            <p:cNvPr id="3685" name="Group 191"/>
            <p:cNvGrpSpPr/>
            <p:nvPr/>
          </p:nvGrpSpPr>
          <p:grpSpPr>
            <a:xfrm>
              <a:off x="3086280" y="2502000"/>
              <a:ext cx="2734560" cy="2734920"/>
              <a:chOff x="3086280" y="2502000"/>
              <a:chExt cx="2734560" cy="2734920"/>
            </a:xfrm>
          </p:grpSpPr>
          <p:sp>
            <p:nvSpPr>
              <p:cNvPr id="3686" name="Freeform 192"/>
              <p:cNvSpPr/>
              <p:nvPr/>
            </p:nvSpPr>
            <p:spPr>
              <a:xfrm>
                <a:off x="3326760" y="2541960"/>
                <a:ext cx="2293560" cy="2663280"/>
              </a:xfrm>
              <a:custGeom>
                <a:avLst/>
                <a:gdLst/>
                <a:ahLst/>
                <a:rect l="l" t="t" r="r" b="b"/>
                <a:pathLst>
                  <a:path w="1144" h="1328">
                    <a:moveTo>
                      <a:pt x="4" y="992"/>
                    </a:moveTo>
                    <a:lnTo>
                      <a:pt x="276" y="664"/>
                    </a:lnTo>
                    <a:lnTo>
                      <a:pt x="0" y="328"/>
                    </a:lnTo>
                    <a:lnTo>
                      <a:pt x="424" y="412"/>
                    </a:lnTo>
                    <a:lnTo>
                      <a:pt x="568" y="0"/>
                    </a:lnTo>
                    <a:lnTo>
                      <a:pt x="716" y="408"/>
                    </a:lnTo>
                    <a:lnTo>
                      <a:pt x="1144" y="332"/>
                    </a:lnTo>
                    <a:lnTo>
                      <a:pt x="860" y="664"/>
                    </a:lnTo>
                    <a:lnTo>
                      <a:pt x="1140" y="992"/>
                    </a:lnTo>
                    <a:lnTo>
                      <a:pt x="720" y="916"/>
                    </a:lnTo>
                    <a:lnTo>
                      <a:pt x="572" y="1328"/>
                    </a:lnTo>
                    <a:lnTo>
                      <a:pt x="424" y="912"/>
                    </a:lnTo>
                    <a:lnTo>
                      <a:pt x="4" y="992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Oval 193"/>
              <p:cNvSpPr/>
              <p:nvPr/>
            </p:nvSpPr>
            <p:spPr>
              <a:xfrm>
                <a:off x="3086280" y="2502000"/>
                <a:ext cx="2734560" cy="27349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8" name="Oval 194"/>
            <p:cNvSpPr/>
            <p:nvPr/>
          </p:nvSpPr>
          <p:spPr>
            <a:xfrm>
              <a:off x="4365720" y="2844720"/>
              <a:ext cx="19044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9" name="Text Box 196"/>
          <p:cNvSpPr/>
          <p:nvPr/>
        </p:nvSpPr>
        <p:spPr>
          <a:xfrm>
            <a:off x="4181400" y="2016000"/>
            <a:ext cx="5302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15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22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29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36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43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50" dur="20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Text Box 6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2" name="Group 7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693" name="Group 8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694" name="AutoShape 9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AutoShape 10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AutoShape 11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AutoShape 12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AutoShape 13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9" name="Group 14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700" name="AutoShape 15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AutoShape 16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AutoShape 17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AutoShape 18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AutoShape 19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5" name="Group 20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706" name="AutoShape 21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AutoShape 22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AutoShape 23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AutoShape 24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AutoShape 25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Group 26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712" name="AutoShape 27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AutoShape 28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AutoShape 29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AutoShape 30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AutoShape 31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7" name="Group 32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718" name="AutoShape 33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AutoShape 34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AutoShape 35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AutoShape 36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AutoShape 37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3" name="AutoShape 38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AutoShape 39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AutoShape 40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AutoShape 41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AutoShape 42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AutoShape 43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AutoShape 44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AutoShape 45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1" name="Group 46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732" name="Group 47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733" name="AutoShape 48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AutoShape 49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AutoShape 50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AutoShape 51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AutoShape 52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8" name="Group 53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739" name="AutoShape 54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AutoShape 55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AutoShape 56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AutoShape 57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AutoShape 58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4" name="Group 59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745" name="AutoShape 60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AutoShape 61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AutoShape 62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AutoShape 63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AutoShape 64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Group 65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751" name="AutoShape 66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AutoShape 67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AutoShape 68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AutoShape 69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AutoShape 70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Group 71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757" name="AutoShape 72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AutoShape 73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AutoShape 74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AutoShape 75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AutoShape 76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AutoShape 77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AutoShape 78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AutoShape 79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AutoShape 80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AutoShape 81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AutoShape 82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AutoShape 83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AutoShape 84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0" name="Group 85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771" name="Group 86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772" name="AutoShape 87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AutoShape 88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AutoShape 89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AutoShape 90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6" name="Group 91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777" name="AutoShape 92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AutoShape 93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AutoShape 94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AutoShape 95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AutoShape 96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2" name="Group 97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783" name="AutoShape 98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AutoShape 99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AutoShape 100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AutoShape 101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AutoShape 102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8" name="Group 103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789" name="AutoShape 104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AutoShape 105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AutoShape 106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AutoShape 107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AutoShape 108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94" name="AutoShape 109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AutoShape 110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AutoShape 111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AutoShape 112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8" name="Group 113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799" name="Group 114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800" name="AutoShape 115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AutoShape 116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AutoShape 117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AutoShape 118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4" name="Group 119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805" name="AutoShape 120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AutoShape 121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AutoShape 122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AutoShape 123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AutoShape 124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0" name="Group 125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811" name="AutoShape 126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AutoShape 127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AutoShape 128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AutoShape 129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AutoShape 130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6" name="Group 131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817" name="AutoShape 132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AutoShape 133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AutoShape 134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AutoShape 135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AutoShape 136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22" name="AutoShape 137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AutoShape 138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AutoShape 139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AutoShape 140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6" name="Text Box 141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Oval 5"/>
          <p:cNvSpPr/>
          <p:nvPr/>
        </p:nvSpPr>
        <p:spPr>
          <a:xfrm>
            <a:off x="2830680" y="2206800"/>
            <a:ext cx="3551040" cy="3551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AutoShape 4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6bc9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343080" y="5284440"/>
            <a:ext cx="5200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gular Poly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2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833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834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9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840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5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846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1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852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7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858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3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1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872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873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8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879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4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885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0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891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6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897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2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0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911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912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6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917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2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923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8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929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4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8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939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940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4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945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0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951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6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957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2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6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7" name="Group 139"/>
          <p:cNvGrpSpPr/>
          <p:nvPr/>
        </p:nvGrpSpPr>
        <p:grpSpPr>
          <a:xfrm>
            <a:off x="2830680" y="2206800"/>
            <a:ext cx="3551040" cy="3551040"/>
            <a:chOff x="2830680" y="2206800"/>
            <a:chExt cx="3551040" cy="3551040"/>
          </a:xfrm>
        </p:grpSpPr>
        <p:sp>
          <p:nvSpPr>
            <p:cNvPr id="3968" name="Oval 140"/>
            <p:cNvSpPr/>
            <p:nvPr/>
          </p:nvSpPr>
          <p:spPr>
            <a:xfrm>
              <a:off x="2830680" y="2206800"/>
              <a:ext cx="3551040" cy="3551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AutoShape 141"/>
            <p:cNvSpPr/>
            <p:nvPr/>
          </p:nvSpPr>
          <p:spPr>
            <a:xfrm>
              <a:off x="3070080" y="2206800"/>
              <a:ext cx="3076560" cy="2660400"/>
            </a:xfrm>
            <a:prstGeom prst="triangle">
              <a:avLst>
                <a:gd name="adj" fmla="val 50000"/>
              </a:avLst>
            </a:prstGeom>
            <a:solidFill>
              <a:srgbClr val="6bc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Oval 142"/>
            <p:cNvSpPr/>
            <p:nvPr/>
          </p:nvSpPr>
          <p:spPr>
            <a:xfrm>
              <a:off x="4510080" y="23875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AutoShape 2"/>
          <p:cNvSpPr/>
          <p:nvPr/>
        </p:nvSpPr>
        <p:spPr>
          <a:xfrm>
            <a:off x="3070080" y="2206800"/>
            <a:ext cx="3076560" cy="26604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Equilateral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3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974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975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0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981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6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987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2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993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8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999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2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013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014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9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020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5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026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1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032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7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038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3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1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052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053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57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058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1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3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064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9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070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75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9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080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081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5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086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7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1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092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7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098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03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7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equilateral triangl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8" name="Group 139"/>
          <p:cNvGrpSpPr/>
          <p:nvPr/>
        </p:nvGrpSpPr>
        <p:grpSpPr>
          <a:xfrm>
            <a:off x="2830680" y="2206800"/>
            <a:ext cx="3551040" cy="3551040"/>
            <a:chOff x="2830680" y="2206800"/>
            <a:chExt cx="3551040" cy="3551040"/>
          </a:xfrm>
        </p:grpSpPr>
        <p:sp>
          <p:nvSpPr>
            <p:cNvPr id="4109" name="Oval 140"/>
            <p:cNvSpPr/>
            <p:nvPr/>
          </p:nvSpPr>
          <p:spPr>
            <a:xfrm>
              <a:off x="2830680" y="2206800"/>
              <a:ext cx="3551040" cy="3551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AutoShape 141"/>
            <p:cNvSpPr/>
            <p:nvPr/>
          </p:nvSpPr>
          <p:spPr>
            <a:xfrm>
              <a:off x="3070080" y="2206800"/>
              <a:ext cx="3076560" cy="2660400"/>
            </a:xfrm>
            <a:prstGeom prst="triangle">
              <a:avLst>
                <a:gd name="adj" fmla="val 50000"/>
              </a:avLst>
            </a:prstGeom>
            <a:solidFill>
              <a:srgbClr val="6bc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Oval 142"/>
            <p:cNvSpPr/>
            <p:nvPr/>
          </p:nvSpPr>
          <p:spPr>
            <a:xfrm>
              <a:off x="4510080" y="23875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2" name="Text Box 143"/>
          <p:cNvSpPr/>
          <p:nvPr/>
        </p:nvSpPr>
        <p:spPr>
          <a:xfrm>
            <a:off x="6224760" y="485316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Text Box 144"/>
          <p:cNvSpPr/>
          <p:nvPr/>
        </p:nvSpPr>
        <p:spPr>
          <a:xfrm>
            <a:off x="2371680" y="485316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Text Box 145"/>
          <p:cNvSpPr/>
          <p:nvPr/>
        </p:nvSpPr>
        <p:spPr>
          <a:xfrm>
            <a:off x="4356000" y="173664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Text Box 146"/>
          <p:cNvSpPr/>
          <p:nvPr/>
        </p:nvSpPr>
        <p:spPr>
          <a:xfrm>
            <a:off x="719928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64" dur="2000" fill="hold"/>
                                        <p:tgtEl>
                                          <p:spTgt spid="4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7200000">
                                      <p:cBhvr>
                                        <p:cTn id="171" dur="2000" fill="hold"/>
                                        <p:tgtEl>
                                          <p:spTgt spid="4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7200000">
                                      <p:cBhvr>
                                        <p:cTn id="178" dur="2000" fill="hold"/>
                                        <p:tgtEl>
                                          <p:spTgt spid="4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Rectangle 148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8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119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120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5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126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1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132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7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138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3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144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9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158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159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165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171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177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183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8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6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197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198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2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203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4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5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6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7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8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209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0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1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2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3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4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215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6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7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8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9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20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4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225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226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0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231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2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3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4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5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6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237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8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9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0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1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2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243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4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5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6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7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8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2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Rectangle 147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fcd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418680" y="528444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Rectangle 2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7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258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259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4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265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0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271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6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277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2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283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8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6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297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298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3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304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9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310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5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316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1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322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7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5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336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337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1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342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3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7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348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9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0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1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2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3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354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59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3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364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365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9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370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5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376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7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8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9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0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1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382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87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1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2" name="Group 144"/>
          <p:cNvGrpSpPr/>
          <p:nvPr/>
        </p:nvGrpSpPr>
        <p:grpSpPr>
          <a:xfrm>
            <a:off x="3541680" y="2554200"/>
            <a:ext cx="2176560" cy="2176560"/>
            <a:chOff x="3541680" y="2554200"/>
            <a:chExt cx="2176560" cy="2176560"/>
          </a:xfrm>
        </p:grpSpPr>
        <p:sp>
          <p:nvSpPr>
            <p:cNvPr id="4393" name="Rectangle 145"/>
            <p:cNvSpPr/>
            <p:nvPr/>
          </p:nvSpPr>
          <p:spPr>
            <a:xfrm>
              <a:off x="3541680" y="2554200"/>
              <a:ext cx="2176560" cy="2176560"/>
            </a:xfrm>
            <a:prstGeom prst="rect">
              <a:avLst/>
            </a:prstGeom>
            <a:solidFill>
              <a:srgbClr val="fcda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Oval 146"/>
            <p:cNvSpPr/>
            <p:nvPr/>
          </p:nvSpPr>
          <p:spPr>
            <a:xfrm>
              <a:off x="5391000" y="2630520"/>
              <a:ext cx="21780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Rectangle 2"/>
          <p:cNvSpPr/>
          <p:nvPr/>
        </p:nvSpPr>
        <p:spPr>
          <a:xfrm>
            <a:off x="3541680" y="2554200"/>
            <a:ext cx="2176560" cy="21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Text Box 3"/>
          <p:cNvSpPr/>
          <p:nvPr/>
        </p:nvSpPr>
        <p:spPr>
          <a:xfrm>
            <a:off x="2695680" y="630360"/>
            <a:ext cx="4171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7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4398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4399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4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4405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4411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6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4417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2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4423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8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6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4437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4438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3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4444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9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4450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5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4456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1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4462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7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5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4476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4477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1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4482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3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5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7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4488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9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1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2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3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4494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5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6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7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8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99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3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4504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4505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09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4510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1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2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3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4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5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4516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7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8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9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0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1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4522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4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5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6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27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1" name="Text Box 138"/>
          <p:cNvSpPr/>
          <p:nvPr/>
        </p:nvSpPr>
        <p:spPr>
          <a:xfrm>
            <a:off x="544680" y="1378080"/>
            <a:ext cx="66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quare has rotational symmetry of ord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Text Box 139"/>
          <p:cNvSpPr/>
          <p:nvPr/>
        </p:nvSpPr>
        <p:spPr>
          <a:xfrm>
            <a:off x="5959440" y="46594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Text Box 140"/>
          <p:cNvSpPr/>
          <p:nvPr/>
        </p:nvSpPr>
        <p:spPr>
          <a:xfrm>
            <a:off x="2778120" y="465948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Text Box 141"/>
          <p:cNvSpPr/>
          <p:nvPr/>
        </p:nvSpPr>
        <p:spPr>
          <a:xfrm>
            <a:off x="2760840" y="2347920"/>
            <a:ext cx="52992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Text Box 142"/>
          <p:cNvSpPr/>
          <p:nvPr/>
        </p:nvSpPr>
        <p:spPr>
          <a:xfrm>
            <a:off x="7199280" y="1349280"/>
            <a:ext cx="507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Text Box 143"/>
          <p:cNvSpPr/>
          <p:nvPr/>
        </p:nvSpPr>
        <p:spPr>
          <a:xfrm>
            <a:off x="5959440" y="2365200"/>
            <a:ext cx="530280" cy="398880"/>
          </a:xfrm>
          <a:prstGeom prst="rect">
            <a:avLst/>
          </a:prstGeom>
          <a:solidFill>
            <a:srgbClr val="f97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7" name="Group 144"/>
          <p:cNvGrpSpPr/>
          <p:nvPr/>
        </p:nvGrpSpPr>
        <p:grpSpPr>
          <a:xfrm>
            <a:off x="3541680" y="2554200"/>
            <a:ext cx="2176560" cy="2176560"/>
            <a:chOff x="3541680" y="2554200"/>
            <a:chExt cx="2176560" cy="2176560"/>
          </a:xfrm>
        </p:grpSpPr>
        <p:sp>
          <p:nvSpPr>
            <p:cNvPr id="4538" name="Rectangle 145"/>
            <p:cNvSpPr/>
            <p:nvPr/>
          </p:nvSpPr>
          <p:spPr>
            <a:xfrm>
              <a:off x="3541680" y="2554200"/>
              <a:ext cx="2176560" cy="2176560"/>
            </a:xfrm>
            <a:prstGeom prst="rect">
              <a:avLst/>
            </a:prstGeom>
            <a:solidFill>
              <a:srgbClr val="fcda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Oval 146"/>
            <p:cNvSpPr/>
            <p:nvPr/>
          </p:nvSpPr>
          <p:spPr>
            <a:xfrm>
              <a:off x="5391000" y="2630520"/>
              <a:ext cx="21780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92" dur="2000" fill="hold"/>
                                        <p:tgtEl>
                                          <p:spTgt spid="4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199" dur="2000" fill="hold"/>
                                        <p:tgtEl>
                                          <p:spTgt spid="4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206" dur="2000" fill="hold"/>
                                        <p:tgtEl>
                                          <p:spTgt spid="4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213" dur="2000" fill="hold"/>
                                        <p:tgtEl>
                                          <p:spTgt spid="4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Text Box 3"/>
          <p:cNvSpPr/>
          <p:nvPr/>
        </p:nvSpPr>
        <p:spPr>
          <a:xfrm>
            <a:off x="333360" y="1523880"/>
            <a:ext cx="88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also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nt 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 can be rotated 180 degrees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If the figure looks the same upside down, then it has point symmetry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2" name="Picture 5" descr="http://www.mathsisfun.com/geometry/images/king-of-hearts.jpg"/>
          <p:cNvPicPr/>
          <p:nvPr/>
        </p:nvPicPr>
        <p:blipFill>
          <a:blip r:embed="rId1"/>
          <a:stretch/>
        </p:blipFill>
        <p:spPr>
          <a:xfrm>
            <a:off x="682560" y="3394080"/>
            <a:ext cx="2565360" cy="3463920"/>
          </a:xfrm>
          <a:prstGeom prst="rect">
            <a:avLst/>
          </a:prstGeom>
          <a:ln w="0">
            <a:noFill/>
          </a:ln>
        </p:spPr>
      </p:pic>
      <p:pic>
        <p:nvPicPr>
          <p:cNvPr id="4543" name="Picture 7" descr="http://dev.physicslab.org/img/a3f12207-11e5-43ac-b269-aa5346c6e655.gif"/>
          <p:cNvPicPr/>
          <p:nvPr/>
        </p:nvPicPr>
        <p:blipFill>
          <a:blip r:embed="rId2"/>
          <a:stretch/>
        </p:blipFill>
        <p:spPr>
          <a:xfrm>
            <a:off x="5334120" y="26668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4544" name="Text Box 8"/>
          <p:cNvSpPr/>
          <p:nvPr/>
        </p:nvSpPr>
        <p:spPr>
          <a:xfrm>
            <a:off x="3416400" y="6278400"/>
            <a:ext cx="57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0/4 = 90 two rotation make 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AutoShape 10"/>
          <p:cNvSpPr/>
          <p:nvPr/>
        </p:nvSpPr>
        <p:spPr>
          <a:xfrm>
            <a:off x="5181480" y="2362320"/>
            <a:ext cx="2590920" cy="838080"/>
          </a:xfrm>
          <a:custGeom>
            <a:avLst/>
            <a:gdLst>
              <a:gd name="textAreaLeft" fmla="*/ 379440 w 2590920"/>
              <a:gd name="textAreaRight" fmla="*/ 2211480 w 259092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9151" y="10800"/>
                </a:moveTo>
                <a:cubicBezTo>
                  <a:pt x="19151" y="6187"/>
                  <a:pt x="15412" y="2449"/>
                  <a:pt x="10800" y="2449"/>
                </a:cubicBezTo>
                <a:cubicBezTo>
                  <a:pt x="6187" y="2449"/>
                  <a:pt x="2449" y="6187"/>
                  <a:pt x="2449" y="10800"/>
                </a:cubicBezTo>
                <a:cubicBezTo>
                  <a:pt x="2449" y="13233"/>
                  <a:pt x="3510" y="15546"/>
                  <a:pt x="5356" y="17133"/>
                </a:cubicBezTo>
                <a:lnTo>
                  <a:pt x="3760" y="18990"/>
                </a:lnTo>
                <a:cubicBezTo>
                  <a:pt x="1373" y="16938"/>
                  <a:pt x="0" y="1394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376" y="14725"/>
                </a:lnTo>
                <a:lnTo>
                  <a:pt x="16451" y="10800"/>
                </a:lnTo>
                <a:lnTo>
                  <a:pt x="19151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4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-Symmetric Fig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Text Box 3"/>
          <p:cNvSpPr/>
          <p:nvPr/>
        </p:nvSpPr>
        <p:spPr>
          <a:xfrm>
            <a:off x="228600" y="16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re is an isometry that maps the figure onto itself.  If that isometry is a reflection, then the figure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ction 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7" name="Picture 5" descr="http://www.art.unt.edu/ntieva/pages/about/newsletters/vol_14/no_1/ReflectionLG.jpg"/>
          <p:cNvPicPr/>
          <p:nvPr/>
        </p:nvPicPr>
        <p:blipFill>
          <a:blip r:embed="rId1"/>
          <a:stretch/>
        </p:blipFill>
        <p:spPr>
          <a:xfrm>
            <a:off x="2438280" y="3308400"/>
            <a:ext cx="39625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609480" y="7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Text Box 3"/>
          <p:cNvSpPr/>
          <p:nvPr/>
        </p:nvSpPr>
        <p:spPr>
          <a:xfrm>
            <a:off x="1297080" y="1676520"/>
            <a:ext cx="68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the type(s) of symmetry each figure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8" name="Picture 5" descr="http://gwydir.demon.co.uk/jo/symmetry/exsym8.gif"/>
          <p:cNvPicPr/>
          <p:nvPr/>
        </p:nvPicPr>
        <p:blipFill>
          <a:blip r:embed="rId1"/>
          <a:stretch/>
        </p:blipFill>
        <p:spPr>
          <a:xfrm>
            <a:off x="304920" y="2362320"/>
            <a:ext cx="2057400" cy="1922400"/>
          </a:xfrm>
          <a:prstGeom prst="rect">
            <a:avLst/>
          </a:prstGeom>
          <a:ln w="0">
            <a:noFill/>
          </a:ln>
        </p:spPr>
      </p:pic>
      <p:pic>
        <p:nvPicPr>
          <p:cNvPr id="4549" name="Picture 7" descr="http://www.mp3car.com/vbulletin/attachments/road-runner/29567d1148324532-new-road-runner-clocks-logos-tissy-chevy-logo-blue.jpg"/>
          <p:cNvPicPr/>
          <p:nvPr/>
        </p:nvPicPr>
        <p:blipFill>
          <a:blip r:embed="rId2"/>
          <a:stretch/>
        </p:blipFill>
        <p:spPr>
          <a:xfrm>
            <a:off x="228600" y="4876920"/>
            <a:ext cx="2971800" cy="1433520"/>
          </a:xfrm>
          <a:prstGeom prst="rect">
            <a:avLst/>
          </a:prstGeom>
          <a:ln w="0">
            <a:noFill/>
          </a:ln>
        </p:spPr>
      </p:pic>
      <p:pic>
        <p:nvPicPr>
          <p:cNvPr id="4550" name="Picture 11" descr="http://ecomodder.com/blog/wp-content/uploads/2009/01/20070514-toyota-logo.jpg"/>
          <p:cNvPicPr/>
          <p:nvPr/>
        </p:nvPicPr>
        <p:blipFill>
          <a:blip r:embed="rId3"/>
          <a:srcRect l="0" t="0" r="0" b="7003"/>
          <a:stretch/>
        </p:blipFill>
        <p:spPr>
          <a:xfrm>
            <a:off x="4191120" y="2286000"/>
            <a:ext cx="3200400" cy="2021040"/>
          </a:xfrm>
          <a:prstGeom prst="rect">
            <a:avLst/>
          </a:prstGeom>
          <a:ln w="0">
            <a:noFill/>
          </a:ln>
        </p:spPr>
      </p:pic>
      <p:pic>
        <p:nvPicPr>
          <p:cNvPr id="4551" name="Picture 13" descr="http://www.pbs.org/teachers/mathline/images/butter1.jpg"/>
          <p:cNvPicPr/>
          <p:nvPr/>
        </p:nvPicPr>
        <p:blipFill>
          <a:blip r:embed="rId4"/>
          <a:stretch/>
        </p:blipFill>
        <p:spPr>
          <a:xfrm>
            <a:off x="4648320" y="4572000"/>
            <a:ext cx="2430360" cy="1827360"/>
          </a:xfrm>
          <a:prstGeom prst="rect">
            <a:avLst/>
          </a:prstGeom>
          <a:ln w="0">
            <a:noFill/>
          </a:ln>
        </p:spPr>
      </p:pic>
      <p:sp>
        <p:nvSpPr>
          <p:cNvPr id="4552" name="Text Box 14"/>
          <p:cNvSpPr/>
          <p:nvPr/>
        </p:nvSpPr>
        <p:spPr>
          <a:xfrm>
            <a:off x="2285640" y="24382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of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Text Box 15"/>
          <p:cNvSpPr/>
          <p:nvPr/>
        </p:nvSpPr>
        <p:spPr>
          <a:xfrm>
            <a:off x="7374240" y="24033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Line 16"/>
          <p:cNvSpPr/>
          <p:nvPr/>
        </p:nvSpPr>
        <p:spPr>
          <a:xfrm>
            <a:off x="579132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Text Box 17"/>
          <p:cNvSpPr/>
          <p:nvPr/>
        </p:nvSpPr>
        <p:spPr>
          <a:xfrm>
            <a:off x="3108240" y="4689360"/>
            <a:ext cx="123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and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Text Box 18"/>
          <p:cNvSpPr/>
          <p:nvPr/>
        </p:nvSpPr>
        <p:spPr>
          <a:xfrm>
            <a:off x="7297920" y="47656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Line 19"/>
          <p:cNvSpPr/>
          <p:nvPr/>
        </p:nvSpPr>
        <p:spPr>
          <a:xfrm>
            <a:off x="5867280" y="4495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4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4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4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4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4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Text Box 3"/>
          <p:cNvSpPr/>
          <p:nvPr/>
        </p:nvSpPr>
        <p:spPr>
          <a:xfrm>
            <a:off x="914400" y="1752480"/>
            <a:ext cx="729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s of symmetry can cut through shapes that have reflection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0" name="Picture 5" descr="http://intermath.coe.uga.edu/dictnary/images/symmetry/Trefsym.gif"/>
          <p:cNvPicPr/>
          <p:nvPr/>
        </p:nvPicPr>
        <p:blipFill>
          <a:blip r:embed="rId1"/>
          <a:stretch/>
        </p:blipFill>
        <p:spPr>
          <a:xfrm>
            <a:off x="838080" y="3124080"/>
            <a:ext cx="2044800" cy="3413160"/>
          </a:xfrm>
          <a:prstGeom prst="rect">
            <a:avLst/>
          </a:prstGeom>
          <a:ln w="0">
            <a:noFill/>
          </a:ln>
        </p:spPr>
      </p:pic>
      <p:sp>
        <p:nvSpPr>
          <p:cNvPr id="3001" name="Text Box 6"/>
          <p:cNvSpPr/>
          <p:nvPr/>
        </p:nvSpPr>
        <p:spPr>
          <a:xfrm>
            <a:off x="4110480" y="3276720"/>
            <a:ext cx="46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in lines of symmetry for e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Text Box 7"/>
          <p:cNvSpPr/>
          <p:nvPr/>
        </p:nvSpPr>
        <p:spPr>
          <a:xfrm>
            <a:off x="5779080" y="3733920"/>
            <a:ext cx="6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Text Box 8"/>
          <p:cNvSpPr/>
          <p:nvPr/>
        </p:nvSpPr>
        <p:spPr>
          <a:xfrm>
            <a:off x="5782320" y="4724280"/>
            <a:ext cx="6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Text Box 9"/>
          <p:cNvSpPr/>
          <p:nvPr/>
        </p:nvSpPr>
        <p:spPr>
          <a:xfrm>
            <a:off x="5774400" y="5791320"/>
            <a:ext cx="6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Line 11"/>
          <p:cNvSpPr/>
          <p:nvPr/>
        </p:nvSpPr>
        <p:spPr>
          <a:xfrm>
            <a:off x="609588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Line 12"/>
          <p:cNvSpPr/>
          <p:nvPr/>
        </p:nvSpPr>
        <p:spPr>
          <a:xfrm>
            <a:off x="5334120" y="5181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Text Box 13"/>
          <p:cNvSpPr/>
          <p:nvPr/>
        </p:nvSpPr>
        <p:spPr>
          <a:xfrm>
            <a:off x="6614640" y="5908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3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3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 Theore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9" name="Picture 4" descr="http://upload.wikimedia.org/wikipedia/commons/thumb/d/d6/Reflection_symmetry.svg/800px-Reflection_symmetry.svg.png"/>
          <p:cNvPicPr/>
          <p:nvPr/>
        </p:nvPicPr>
        <p:blipFill>
          <a:blip r:embed="rId1"/>
          <a:srcRect l="0" t="19864" r="0" b="12629"/>
          <a:stretch/>
        </p:blipFill>
        <p:spPr>
          <a:xfrm>
            <a:off x="1600200" y="3581280"/>
            <a:ext cx="5329080" cy="2621160"/>
          </a:xfrm>
          <a:prstGeom prst="rect">
            <a:avLst/>
          </a:prstGeom>
          <a:ln w="0">
            <a:noFill/>
          </a:ln>
        </p:spPr>
      </p:pic>
      <p:sp>
        <p:nvSpPr>
          <p:cNvPr id="3010" name="Text Box 5"/>
          <p:cNvSpPr/>
          <p:nvPr/>
        </p:nvSpPr>
        <p:spPr>
          <a:xfrm>
            <a:off x="609480" y="1752480"/>
            <a:ext cx="73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with reflection symmetry have their pre-images and images equal distances from the reflection mi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Text Box 6"/>
          <p:cNvSpPr/>
          <p:nvPr/>
        </p:nvSpPr>
        <p:spPr>
          <a:xfrm>
            <a:off x="3353760" y="3429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Text Box 7"/>
          <p:cNvSpPr/>
          <p:nvPr/>
        </p:nvSpPr>
        <p:spPr>
          <a:xfrm>
            <a:off x="3049200" y="4572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Text Box 8"/>
          <p:cNvSpPr/>
          <p:nvPr/>
        </p:nvSpPr>
        <p:spPr>
          <a:xfrm>
            <a:off x="2667960" y="59436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Text Box 9"/>
          <p:cNvSpPr/>
          <p:nvPr/>
        </p:nvSpPr>
        <p:spPr>
          <a:xfrm>
            <a:off x="46339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Text Box 10"/>
          <p:cNvSpPr/>
          <p:nvPr/>
        </p:nvSpPr>
        <p:spPr>
          <a:xfrm>
            <a:off x="455796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Text Box 11"/>
          <p:cNvSpPr/>
          <p:nvPr/>
        </p:nvSpPr>
        <p:spPr>
          <a:xfrm>
            <a:off x="495468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3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3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3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le Symmet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Text Box 3"/>
          <p:cNvSpPr/>
          <p:nvPr/>
        </p:nvSpPr>
        <p:spPr>
          <a:xfrm>
            <a:off x="1144440" y="1778040"/>
            <a:ext cx="73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lines of symmetry does a circle have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9" name="Picture 5" descr="http://www.kwiznet.com/images/questions/grade3/circle_symmetry.gif"/>
          <p:cNvPicPr/>
          <p:nvPr/>
        </p:nvPicPr>
        <p:blipFill>
          <a:blip r:embed="rId1"/>
          <a:stretch/>
        </p:blipFill>
        <p:spPr>
          <a:xfrm>
            <a:off x="1066680" y="2824200"/>
            <a:ext cx="2971800" cy="2624040"/>
          </a:xfrm>
          <a:prstGeom prst="rect">
            <a:avLst/>
          </a:prstGeom>
          <a:ln w="0">
            <a:noFill/>
          </a:ln>
        </p:spPr>
      </p:pic>
      <p:sp>
        <p:nvSpPr>
          <p:cNvPr id="3020" name="Text Box 6"/>
          <p:cNvSpPr/>
          <p:nvPr/>
        </p:nvSpPr>
        <p:spPr>
          <a:xfrm>
            <a:off x="5013360" y="308916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init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3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metric Figures Theore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Text Box 3"/>
          <p:cNvSpPr/>
          <p:nvPr/>
        </p:nvSpPr>
        <p:spPr>
          <a:xfrm>
            <a:off x="1067400" y="1828800"/>
            <a:ext cx="70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ymmetric figur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ru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s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3" name="Picture 5" descr="http://thesaurus.maths.org/mmkb/media/png/Reflectionalsymmetry.png"/>
          <p:cNvPicPr/>
          <p:nvPr/>
        </p:nvPicPr>
        <p:blipFill>
          <a:blip r:embed="rId1"/>
          <a:stretch/>
        </p:blipFill>
        <p:spPr>
          <a:xfrm>
            <a:off x="3048120" y="2743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ation Symmet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Text Box 3"/>
          <p:cNvSpPr/>
          <p:nvPr/>
        </p:nvSpPr>
        <p:spPr>
          <a:xfrm>
            <a:off x="484200" y="1752480"/>
            <a:ext cx="865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tational 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’s congruent after a rot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80 degrees or less (greater than ze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6" name="Picture 5" descr="http://thesaurus.maths.org/mmkb/media/png/RotationalSymmetry.png"/>
          <p:cNvPicPr/>
          <p:nvPr/>
        </p:nvPicPr>
        <p:blipFill>
          <a:blip r:embed="rId1"/>
          <a:stretch/>
        </p:blipFill>
        <p:spPr>
          <a:xfrm>
            <a:off x="457200" y="3048120"/>
            <a:ext cx="3349800" cy="3429000"/>
          </a:xfrm>
          <a:prstGeom prst="rect">
            <a:avLst/>
          </a:prstGeom>
          <a:ln w="0">
            <a:noFill/>
          </a:ln>
        </p:spPr>
      </p:pic>
      <p:sp>
        <p:nvSpPr>
          <p:cNvPr id="3027" name="Text Box 6"/>
          <p:cNvSpPr/>
          <p:nvPr/>
        </p:nvSpPr>
        <p:spPr>
          <a:xfrm>
            <a:off x="4572000" y="3048120"/>
            <a:ext cx="42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degrees of roation by dividing 360 by number of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Text Box 7"/>
          <p:cNvSpPr/>
          <p:nvPr/>
        </p:nvSpPr>
        <p:spPr>
          <a:xfrm>
            <a:off x="5315040" y="4591080"/>
            <a:ext cx="21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0/3 = 1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3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 of Rotational 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Text Box 250"/>
          <p:cNvSpPr/>
          <p:nvPr/>
        </p:nvSpPr>
        <p:spPr>
          <a:xfrm>
            <a:off x="3048120" y="1752480"/>
            <a:ext cx="2639880" cy="2228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rder of rotational symmetry that an object ha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s the number of times that it fits on to it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ring a full rotation of 360 deg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1" name="Group 4"/>
          <p:cNvGrpSpPr/>
          <p:nvPr/>
        </p:nvGrpSpPr>
        <p:grpSpPr>
          <a:xfrm>
            <a:off x="0" y="0"/>
            <a:ext cx="9144000" cy="285840"/>
            <a:chOff x="0" y="0"/>
            <a:chExt cx="9144000" cy="285840"/>
          </a:xfrm>
        </p:grpSpPr>
        <p:grpSp>
          <p:nvGrpSpPr>
            <p:cNvPr id="3032" name="Group 5"/>
            <p:cNvGrpSpPr/>
            <p:nvPr/>
          </p:nvGrpSpPr>
          <p:grpSpPr>
            <a:xfrm>
              <a:off x="0" y="0"/>
              <a:ext cx="1381320" cy="285840"/>
              <a:chOff x="0" y="0"/>
              <a:chExt cx="1381320" cy="285840"/>
            </a:xfrm>
          </p:grpSpPr>
          <p:sp>
            <p:nvSpPr>
              <p:cNvPr id="3033" name="AutoShape 6"/>
              <p:cNvSpPr/>
              <p:nvPr/>
            </p:nvSpPr>
            <p:spPr>
              <a:xfrm>
                <a:off x="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AutoShape 7"/>
              <p:cNvSpPr/>
              <p:nvPr/>
            </p:nvSpPr>
            <p:spPr>
              <a:xfrm>
                <a:off x="2696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AutoShape 8"/>
              <p:cNvSpPr/>
              <p:nvPr/>
            </p:nvSpPr>
            <p:spPr>
              <a:xfrm>
                <a:off x="552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AutoShape 9"/>
              <p:cNvSpPr/>
              <p:nvPr/>
            </p:nvSpPr>
            <p:spPr>
              <a:xfrm>
                <a:off x="8222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AutoShape 10"/>
              <p:cNvSpPr/>
              <p:nvPr/>
            </p:nvSpPr>
            <p:spPr>
              <a:xfrm>
                <a:off x="10987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8" name="Group 11"/>
            <p:cNvGrpSpPr/>
            <p:nvPr/>
          </p:nvGrpSpPr>
          <p:grpSpPr>
            <a:xfrm>
              <a:off x="1374840" y="0"/>
              <a:ext cx="1380600" cy="285840"/>
              <a:chOff x="1374840" y="0"/>
              <a:chExt cx="1380600" cy="285840"/>
            </a:xfrm>
          </p:grpSpPr>
          <p:sp>
            <p:nvSpPr>
              <p:cNvPr id="3039" name="AutoShape 12"/>
              <p:cNvSpPr/>
              <p:nvPr/>
            </p:nvSpPr>
            <p:spPr>
              <a:xfrm>
                <a:off x="13748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AutoShape 13"/>
              <p:cNvSpPr/>
              <p:nvPr/>
            </p:nvSpPr>
            <p:spPr>
              <a:xfrm>
                <a:off x="16444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AutoShape 14"/>
              <p:cNvSpPr/>
              <p:nvPr/>
            </p:nvSpPr>
            <p:spPr>
              <a:xfrm>
                <a:off x="192708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AutoShape 15"/>
              <p:cNvSpPr/>
              <p:nvPr/>
            </p:nvSpPr>
            <p:spPr>
              <a:xfrm>
                <a:off x="2197080" y="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AutoShape 16"/>
              <p:cNvSpPr/>
              <p:nvPr/>
            </p:nvSpPr>
            <p:spPr>
              <a:xfrm>
                <a:off x="247320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4" name="Group 17"/>
            <p:cNvGrpSpPr/>
            <p:nvPr/>
          </p:nvGrpSpPr>
          <p:grpSpPr>
            <a:xfrm>
              <a:off x="2755800" y="0"/>
              <a:ext cx="1381320" cy="285840"/>
              <a:chOff x="2755800" y="0"/>
              <a:chExt cx="1381320" cy="285840"/>
            </a:xfrm>
          </p:grpSpPr>
          <p:sp>
            <p:nvSpPr>
              <p:cNvPr id="3045" name="AutoShape 18"/>
              <p:cNvSpPr/>
              <p:nvPr/>
            </p:nvSpPr>
            <p:spPr>
              <a:xfrm>
                <a:off x="275580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AutoShape 19"/>
              <p:cNvSpPr/>
              <p:nvPr/>
            </p:nvSpPr>
            <p:spPr>
              <a:xfrm>
                <a:off x="30254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AutoShape 20"/>
              <p:cNvSpPr/>
              <p:nvPr/>
            </p:nvSpPr>
            <p:spPr>
              <a:xfrm>
                <a:off x="33080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AutoShape 21"/>
              <p:cNvSpPr/>
              <p:nvPr/>
            </p:nvSpPr>
            <p:spPr>
              <a:xfrm>
                <a:off x="357804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AutoShape 22"/>
              <p:cNvSpPr/>
              <p:nvPr/>
            </p:nvSpPr>
            <p:spPr>
              <a:xfrm>
                <a:off x="3854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0" name="Group 23"/>
            <p:cNvGrpSpPr/>
            <p:nvPr/>
          </p:nvGrpSpPr>
          <p:grpSpPr>
            <a:xfrm>
              <a:off x="4137120" y="0"/>
              <a:ext cx="1381320" cy="285840"/>
              <a:chOff x="4137120" y="0"/>
              <a:chExt cx="1381320" cy="285840"/>
            </a:xfrm>
          </p:grpSpPr>
          <p:sp>
            <p:nvSpPr>
              <p:cNvPr id="3051" name="AutoShape 24"/>
              <p:cNvSpPr/>
              <p:nvPr/>
            </p:nvSpPr>
            <p:spPr>
              <a:xfrm>
                <a:off x="41371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AutoShape 25"/>
              <p:cNvSpPr/>
              <p:nvPr/>
            </p:nvSpPr>
            <p:spPr>
              <a:xfrm>
                <a:off x="4406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AutoShape 26"/>
              <p:cNvSpPr/>
              <p:nvPr/>
            </p:nvSpPr>
            <p:spPr>
              <a:xfrm>
                <a:off x="46893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AutoShape 27"/>
              <p:cNvSpPr/>
              <p:nvPr/>
            </p:nvSpPr>
            <p:spPr>
              <a:xfrm>
                <a:off x="49593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AutoShape 28"/>
              <p:cNvSpPr/>
              <p:nvPr/>
            </p:nvSpPr>
            <p:spPr>
              <a:xfrm>
                <a:off x="52358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6" name="Group 29"/>
            <p:cNvGrpSpPr/>
            <p:nvPr/>
          </p:nvGrpSpPr>
          <p:grpSpPr>
            <a:xfrm>
              <a:off x="5546520" y="0"/>
              <a:ext cx="1381320" cy="285840"/>
              <a:chOff x="5546520" y="0"/>
              <a:chExt cx="1381320" cy="285840"/>
            </a:xfrm>
          </p:grpSpPr>
          <p:sp>
            <p:nvSpPr>
              <p:cNvPr id="3057" name="AutoShape 30"/>
              <p:cNvSpPr/>
              <p:nvPr/>
            </p:nvSpPr>
            <p:spPr>
              <a:xfrm>
                <a:off x="554652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AutoShape 31"/>
              <p:cNvSpPr/>
              <p:nvPr/>
            </p:nvSpPr>
            <p:spPr>
              <a:xfrm>
                <a:off x="58161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AutoShape 32"/>
              <p:cNvSpPr/>
              <p:nvPr/>
            </p:nvSpPr>
            <p:spPr>
              <a:xfrm>
                <a:off x="609876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AutoShape 33"/>
              <p:cNvSpPr/>
              <p:nvPr/>
            </p:nvSpPr>
            <p:spPr>
              <a:xfrm>
                <a:off x="6368760" y="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AutoShape 34"/>
              <p:cNvSpPr/>
              <p:nvPr/>
            </p:nvSpPr>
            <p:spPr>
              <a:xfrm>
                <a:off x="6645240" y="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2" name="AutoShape 35"/>
            <p:cNvSpPr/>
            <p:nvPr/>
          </p:nvSpPr>
          <p:spPr>
            <a:xfrm>
              <a:off x="692784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AutoShape 36"/>
            <p:cNvSpPr/>
            <p:nvPr/>
          </p:nvSpPr>
          <p:spPr>
            <a:xfrm>
              <a:off x="71974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AutoShape 37"/>
            <p:cNvSpPr/>
            <p:nvPr/>
          </p:nvSpPr>
          <p:spPr>
            <a:xfrm>
              <a:off x="748008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AutoShape 38"/>
            <p:cNvSpPr/>
            <p:nvPr/>
          </p:nvSpPr>
          <p:spPr>
            <a:xfrm>
              <a:off x="775008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AutoShape 39"/>
            <p:cNvSpPr/>
            <p:nvPr/>
          </p:nvSpPr>
          <p:spPr>
            <a:xfrm>
              <a:off x="80262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AutoShape 40"/>
            <p:cNvSpPr/>
            <p:nvPr/>
          </p:nvSpPr>
          <p:spPr>
            <a:xfrm>
              <a:off x="83088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AutoShape 41"/>
            <p:cNvSpPr/>
            <p:nvPr/>
          </p:nvSpPr>
          <p:spPr>
            <a:xfrm>
              <a:off x="8578800" y="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AutoShape 42"/>
            <p:cNvSpPr/>
            <p:nvPr/>
          </p:nvSpPr>
          <p:spPr>
            <a:xfrm>
              <a:off x="8861400" y="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0" name="Group 43"/>
          <p:cNvGrpSpPr/>
          <p:nvPr/>
        </p:nvGrpSpPr>
        <p:grpSpPr>
          <a:xfrm>
            <a:off x="-7920" y="6572160"/>
            <a:ext cx="9144000" cy="285840"/>
            <a:chOff x="-7920" y="6572160"/>
            <a:chExt cx="9144000" cy="285840"/>
          </a:xfrm>
        </p:grpSpPr>
        <p:grpSp>
          <p:nvGrpSpPr>
            <p:cNvPr id="3071" name="Group 44"/>
            <p:cNvGrpSpPr/>
            <p:nvPr/>
          </p:nvGrpSpPr>
          <p:grpSpPr>
            <a:xfrm>
              <a:off x="-7920" y="6572160"/>
              <a:ext cx="1381320" cy="285840"/>
              <a:chOff x="-7920" y="6572160"/>
              <a:chExt cx="1381320" cy="285840"/>
            </a:xfrm>
          </p:grpSpPr>
          <p:sp>
            <p:nvSpPr>
              <p:cNvPr id="3072" name="AutoShape 45"/>
              <p:cNvSpPr/>
              <p:nvPr/>
            </p:nvSpPr>
            <p:spPr>
              <a:xfrm>
                <a:off x="-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AutoShape 46"/>
              <p:cNvSpPr/>
              <p:nvPr/>
            </p:nvSpPr>
            <p:spPr>
              <a:xfrm>
                <a:off x="2617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AutoShape 47"/>
              <p:cNvSpPr/>
              <p:nvPr/>
            </p:nvSpPr>
            <p:spPr>
              <a:xfrm>
                <a:off x="544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AutoShape 48"/>
              <p:cNvSpPr/>
              <p:nvPr/>
            </p:nvSpPr>
            <p:spPr>
              <a:xfrm>
                <a:off x="8143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AutoShape 49"/>
              <p:cNvSpPr/>
              <p:nvPr/>
            </p:nvSpPr>
            <p:spPr>
              <a:xfrm>
                <a:off x="10908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7" name="Group 50"/>
            <p:cNvGrpSpPr/>
            <p:nvPr/>
          </p:nvGrpSpPr>
          <p:grpSpPr>
            <a:xfrm>
              <a:off x="1366920" y="6572160"/>
              <a:ext cx="1380600" cy="285840"/>
              <a:chOff x="1366920" y="6572160"/>
              <a:chExt cx="1380600" cy="285840"/>
            </a:xfrm>
          </p:grpSpPr>
          <p:sp>
            <p:nvSpPr>
              <p:cNvPr id="3078" name="AutoShape 51"/>
              <p:cNvSpPr/>
              <p:nvPr/>
            </p:nvSpPr>
            <p:spPr>
              <a:xfrm>
                <a:off x="13669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AutoShape 52"/>
              <p:cNvSpPr/>
              <p:nvPr/>
            </p:nvSpPr>
            <p:spPr>
              <a:xfrm>
                <a:off x="16365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AutoShape 53"/>
              <p:cNvSpPr/>
              <p:nvPr/>
            </p:nvSpPr>
            <p:spPr>
              <a:xfrm>
                <a:off x="191916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AutoShape 54"/>
              <p:cNvSpPr/>
              <p:nvPr/>
            </p:nvSpPr>
            <p:spPr>
              <a:xfrm>
                <a:off x="2189160" y="6572160"/>
                <a:ext cx="28188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AutoShape 55"/>
              <p:cNvSpPr/>
              <p:nvPr/>
            </p:nvSpPr>
            <p:spPr>
              <a:xfrm>
                <a:off x="246528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3" name="Group 56"/>
            <p:cNvGrpSpPr/>
            <p:nvPr/>
          </p:nvGrpSpPr>
          <p:grpSpPr>
            <a:xfrm>
              <a:off x="2747880" y="6572160"/>
              <a:ext cx="1381320" cy="285840"/>
              <a:chOff x="2747880" y="6572160"/>
              <a:chExt cx="1381320" cy="285840"/>
            </a:xfrm>
          </p:grpSpPr>
          <p:sp>
            <p:nvSpPr>
              <p:cNvPr id="3084" name="AutoShape 57"/>
              <p:cNvSpPr/>
              <p:nvPr/>
            </p:nvSpPr>
            <p:spPr>
              <a:xfrm>
                <a:off x="274788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AutoShape 58"/>
              <p:cNvSpPr/>
              <p:nvPr/>
            </p:nvSpPr>
            <p:spPr>
              <a:xfrm>
                <a:off x="30175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AutoShape 59"/>
              <p:cNvSpPr/>
              <p:nvPr/>
            </p:nvSpPr>
            <p:spPr>
              <a:xfrm>
                <a:off x="33001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AutoShape 60"/>
              <p:cNvSpPr/>
              <p:nvPr/>
            </p:nvSpPr>
            <p:spPr>
              <a:xfrm>
                <a:off x="357012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AutoShape 61"/>
              <p:cNvSpPr/>
              <p:nvPr/>
            </p:nvSpPr>
            <p:spPr>
              <a:xfrm>
                <a:off x="3846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9" name="Group 62"/>
            <p:cNvGrpSpPr/>
            <p:nvPr/>
          </p:nvGrpSpPr>
          <p:grpSpPr>
            <a:xfrm>
              <a:off x="4129200" y="6572160"/>
              <a:ext cx="1381320" cy="285840"/>
              <a:chOff x="4129200" y="6572160"/>
              <a:chExt cx="1381320" cy="285840"/>
            </a:xfrm>
          </p:grpSpPr>
          <p:sp>
            <p:nvSpPr>
              <p:cNvPr id="3090" name="AutoShape 63"/>
              <p:cNvSpPr/>
              <p:nvPr/>
            </p:nvSpPr>
            <p:spPr>
              <a:xfrm>
                <a:off x="41292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AutoShape 64"/>
              <p:cNvSpPr/>
              <p:nvPr/>
            </p:nvSpPr>
            <p:spPr>
              <a:xfrm>
                <a:off x="4398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AutoShape 65"/>
              <p:cNvSpPr/>
              <p:nvPr/>
            </p:nvSpPr>
            <p:spPr>
              <a:xfrm>
                <a:off x="46814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AutoShape 66"/>
              <p:cNvSpPr/>
              <p:nvPr/>
            </p:nvSpPr>
            <p:spPr>
              <a:xfrm>
                <a:off x="49514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AutoShape 67"/>
              <p:cNvSpPr/>
              <p:nvPr/>
            </p:nvSpPr>
            <p:spPr>
              <a:xfrm>
                <a:off x="52279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5" name="Group 68"/>
            <p:cNvGrpSpPr/>
            <p:nvPr/>
          </p:nvGrpSpPr>
          <p:grpSpPr>
            <a:xfrm>
              <a:off x="5538600" y="6572160"/>
              <a:ext cx="1381320" cy="285840"/>
              <a:chOff x="5538600" y="6572160"/>
              <a:chExt cx="1381320" cy="285840"/>
            </a:xfrm>
          </p:grpSpPr>
          <p:sp>
            <p:nvSpPr>
              <p:cNvPr id="3096" name="AutoShape 69"/>
              <p:cNvSpPr/>
              <p:nvPr/>
            </p:nvSpPr>
            <p:spPr>
              <a:xfrm>
                <a:off x="553860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AutoShape 70"/>
              <p:cNvSpPr/>
              <p:nvPr/>
            </p:nvSpPr>
            <p:spPr>
              <a:xfrm>
                <a:off x="58082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AutoShape 71"/>
              <p:cNvSpPr/>
              <p:nvPr/>
            </p:nvSpPr>
            <p:spPr>
              <a:xfrm>
                <a:off x="609084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AutoShape 72"/>
              <p:cNvSpPr/>
              <p:nvPr/>
            </p:nvSpPr>
            <p:spPr>
              <a:xfrm>
                <a:off x="6360840" y="6572160"/>
                <a:ext cx="28224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AutoShape 73"/>
              <p:cNvSpPr/>
              <p:nvPr/>
            </p:nvSpPr>
            <p:spPr>
              <a:xfrm>
                <a:off x="6637320" y="6572160"/>
                <a:ext cx="28260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AutoShape 74"/>
            <p:cNvSpPr/>
            <p:nvPr/>
          </p:nvSpPr>
          <p:spPr>
            <a:xfrm>
              <a:off x="691992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AutoShape 75"/>
            <p:cNvSpPr/>
            <p:nvPr/>
          </p:nvSpPr>
          <p:spPr>
            <a:xfrm>
              <a:off x="71895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AutoShape 76"/>
            <p:cNvSpPr/>
            <p:nvPr/>
          </p:nvSpPr>
          <p:spPr>
            <a:xfrm>
              <a:off x="747216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AutoShape 77"/>
            <p:cNvSpPr/>
            <p:nvPr/>
          </p:nvSpPr>
          <p:spPr>
            <a:xfrm>
              <a:off x="774216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AutoShape 78"/>
            <p:cNvSpPr/>
            <p:nvPr/>
          </p:nvSpPr>
          <p:spPr>
            <a:xfrm>
              <a:off x="80182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AutoShape 79"/>
            <p:cNvSpPr/>
            <p:nvPr/>
          </p:nvSpPr>
          <p:spPr>
            <a:xfrm>
              <a:off x="83008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AutoShape 80"/>
            <p:cNvSpPr/>
            <p:nvPr/>
          </p:nvSpPr>
          <p:spPr>
            <a:xfrm>
              <a:off x="8570880" y="6572160"/>
              <a:ext cx="28224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AutoShape 81"/>
            <p:cNvSpPr/>
            <p:nvPr/>
          </p:nvSpPr>
          <p:spPr>
            <a:xfrm>
              <a:off x="8853480" y="6572160"/>
              <a:ext cx="28260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9" name="Group 82"/>
          <p:cNvGrpSpPr/>
          <p:nvPr/>
        </p:nvGrpSpPr>
        <p:grpSpPr>
          <a:xfrm>
            <a:off x="-15840" y="285840"/>
            <a:ext cx="299880" cy="6285960"/>
            <a:chOff x="-15840" y="285840"/>
            <a:chExt cx="299880" cy="6285960"/>
          </a:xfrm>
        </p:grpSpPr>
        <p:grpSp>
          <p:nvGrpSpPr>
            <p:cNvPr id="3110" name="Group 83"/>
            <p:cNvGrpSpPr/>
            <p:nvPr/>
          </p:nvGrpSpPr>
          <p:grpSpPr>
            <a:xfrm>
              <a:off x="-6480" y="285840"/>
              <a:ext cx="290520" cy="5191200"/>
              <a:chOff x="-6480" y="285840"/>
              <a:chExt cx="290520" cy="5191200"/>
            </a:xfrm>
          </p:grpSpPr>
          <p:sp>
            <p:nvSpPr>
              <p:cNvPr id="3111" name="AutoShape 84"/>
              <p:cNvSpPr/>
              <p:nvPr/>
            </p:nvSpPr>
            <p:spPr>
              <a:xfrm rot="5400000">
                <a:off x="-324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AutoShape 85"/>
              <p:cNvSpPr/>
              <p:nvPr/>
            </p:nvSpPr>
            <p:spPr>
              <a:xfrm rot="5400000">
                <a:off x="-1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AutoShape 86"/>
              <p:cNvSpPr/>
              <p:nvPr/>
            </p:nvSpPr>
            <p:spPr>
              <a:xfrm rot="5400000">
                <a:off x="-1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AutoShape 87"/>
              <p:cNvSpPr/>
              <p:nvPr/>
            </p:nvSpPr>
            <p:spPr>
              <a:xfrm rot="5400000">
                <a:off x="-1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5" name="Group 88"/>
              <p:cNvGrpSpPr/>
              <p:nvPr/>
            </p:nvGrpSpPr>
            <p:grpSpPr>
              <a:xfrm>
                <a:off x="-5040" y="1378080"/>
                <a:ext cx="285840" cy="1366560"/>
                <a:chOff x="-5040" y="1378080"/>
                <a:chExt cx="285840" cy="1366560"/>
              </a:xfrm>
            </p:grpSpPr>
            <p:sp>
              <p:nvSpPr>
                <p:cNvPr id="3116" name="AutoShape 89"/>
                <p:cNvSpPr/>
                <p:nvPr/>
              </p:nvSpPr>
              <p:spPr>
                <a:xfrm rot="5400000">
                  <a:off x="-180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AutoShape 90"/>
                <p:cNvSpPr/>
                <p:nvPr/>
              </p:nvSpPr>
              <p:spPr>
                <a:xfrm rot="5400000">
                  <a:off x="-1800" y="1641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AutoShape 91"/>
                <p:cNvSpPr/>
                <p:nvPr/>
              </p:nvSpPr>
              <p:spPr>
                <a:xfrm rot="5400000">
                  <a:off x="-180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AutoShape 92"/>
                <p:cNvSpPr/>
                <p:nvPr/>
              </p:nvSpPr>
              <p:spPr>
                <a:xfrm rot="5400000">
                  <a:off x="-144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AutoShape 93"/>
                <p:cNvSpPr/>
                <p:nvPr/>
              </p:nvSpPr>
              <p:spPr>
                <a:xfrm rot="5400000">
                  <a:off x="-180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1" name="Group 94"/>
              <p:cNvGrpSpPr/>
              <p:nvPr/>
            </p:nvGrpSpPr>
            <p:grpSpPr>
              <a:xfrm>
                <a:off x="-5040" y="2745000"/>
                <a:ext cx="285840" cy="1366560"/>
                <a:chOff x="-5040" y="2745000"/>
                <a:chExt cx="285840" cy="1366560"/>
              </a:xfrm>
            </p:grpSpPr>
            <p:sp>
              <p:nvSpPr>
                <p:cNvPr id="3122" name="AutoShape 95"/>
                <p:cNvSpPr/>
                <p:nvPr/>
              </p:nvSpPr>
              <p:spPr>
                <a:xfrm rot="5400000">
                  <a:off x="-180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AutoShape 96"/>
                <p:cNvSpPr/>
                <p:nvPr/>
              </p:nvSpPr>
              <p:spPr>
                <a:xfrm rot="5400000">
                  <a:off x="-1800" y="300888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AutoShape 97"/>
                <p:cNvSpPr/>
                <p:nvPr/>
              </p:nvSpPr>
              <p:spPr>
                <a:xfrm rot="5400000">
                  <a:off x="-180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AutoShape 98"/>
                <p:cNvSpPr/>
                <p:nvPr/>
              </p:nvSpPr>
              <p:spPr>
                <a:xfrm rot="5400000">
                  <a:off x="-144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AutoShape 99"/>
                <p:cNvSpPr/>
                <p:nvPr/>
              </p:nvSpPr>
              <p:spPr>
                <a:xfrm rot="5400000">
                  <a:off x="-180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7" name="Group 100"/>
              <p:cNvGrpSpPr/>
              <p:nvPr/>
            </p:nvGrpSpPr>
            <p:grpSpPr>
              <a:xfrm>
                <a:off x="-1800" y="4110480"/>
                <a:ext cx="285840" cy="1366560"/>
                <a:chOff x="-1800" y="4110480"/>
                <a:chExt cx="285840" cy="1366560"/>
              </a:xfrm>
            </p:grpSpPr>
            <p:sp>
              <p:nvSpPr>
                <p:cNvPr id="3128" name="AutoShape 101"/>
                <p:cNvSpPr/>
                <p:nvPr/>
              </p:nvSpPr>
              <p:spPr>
                <a:xfrm rot="5400000">
                  <a:off x="108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AutoShape 102"/>
                <p:cNvSpPr/>
                <p:nvPr/>
              </p:nvSpPr>
              <p:spPr>
                <a:xfrm rot="5400000">
                  <a:off x="1080" y="43743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AutoShape 103"/>
                <p:cNvSpPr/>
                <p:nvPr/>
              </p:nvSpPr>
              <p:spPr>
                <a:xfrm rot="5400000">
                  <a:off x="108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AutoShape 104"/>
                <p:cNvSpPr/>
                <p:nvPr/>
              </p:nvSpPr>
              <p:spPr>
                <a:xfrm rot="5400000">
                  <a:off x="144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AutoShape 105"/>
                <p:cNvSpPr/>
                <p:nvPr/>
              </p:nvSpPr>
              <p:spPr>
                <a:xfrm rot="5400000">
                  <a:off x="108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33" name="AutoShape 106"/>
            <p:cNvSpPr/>
            <p:nvPr/>
          </p:nvSpPr>
          <p:spPr>
            <a:xfrm rot="5400000">
              <a:off x="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AutoShape 107"/>
            <p:cNvSpPr/>
            <p:nvPr/>
          </p:nvSpPr>
          <p:spPr>
            <a:xfrm rot="5400000">
              <a:off x="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AutoShape 108"/>
            <p:cNvSpPr/>
            <p:nvPr/>
          </p:nvSpPr>
          <p:spPr>
            <a:xfrm rot="5400000">
              <a:off x="-468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AutoShape 109"/>
            <p:cNvSpPr/>
            <p:nvPr/>
          </p:nvSpPr>
          <p:spPr>
            <a:xfrm rot="5400000">
              <a:off x="-126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7" name="Group 110"/>
          <p:cNvGrpSpPr/>
          <p:nvPr/>
        </p:nvGrpSpPr>
        <p:grpSpPr>
          <a:xfrm>
            <a:off x="8844120" y="285840"/>
            <a:ext cx="299880" cy="6285960"/>
            <a:chOff x="8844120" y="285840"/>
            <a:chExt cx="299880" cy="6285960"/>
          </a:xfrm>
        </p:grpSpPr>
        <p:grpSp>
          <p:nvGrpSpPr>
            <p:cNvPr id="3138" name="Group 111"/>
            <p:cNvGrpSpPr/>
            <p:nvPr/>
          </p:nvGrpSpPr>
          <p:grpSpPr>
            <a:xfrm>
              <a:off x="8853480" y="285840"/>
              <a:ext cx="290520" cy="5191200"/>
              <a:chOff x="8853480" y="285840"/>
              <a:chExt cx="290520" cy="5191200"/>
            </a:xfrm>
          </p:grpSpPr>
          <p:sp>
            <p:nvSpPr>
              <p:cNvPr id="3139" name="AutoShape 112"/>
              <p:cNvSpPr/>
              <p:nvPr/>
            </p:nvSpPr>
            <p:spPr>
              <a:xfrm rot="5400000">
                <a:off x="8856360" y="28260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AutoShape 113"/>
              <p:cNvSpPr/>
              <p:nvPr/>
            </p:nvSpPr>
            <p:spPr>
              <a:xfrm rot="5400000">
                <a:off x="8857800" y="56052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AutoShape 114"/>
              <p:cNvSpPr/>
              <p:nvPr/>
            </p:nvSpPr>
            <p:spPr>
              <a:xfrm rot="5400000">
                <a:off x="8857800" y="82764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AutoShape 115"/>
              <p:cNvSpPr/>
              <p:nvPr/>
            </p:nvSpPr>
            <p:spPr>
              <a:xfrm rot="5400000">
                <a:off x="8857800" y="1100880"/>
                <a:ext cx="279720" cy="285840"/>
              </a:xfrm>
              <a:prstGeom prst="bevel">
                <a:avLst>
                  <a:gd name="adj" fmla="val 125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3" name="Group 116"/>
              <p:cNvGrpSpPr/>
              <p:nvPr/>
            </p:nvGrpSpPr>
            <p:grpSpPr>
              <a:xfrm>
                <a:off x="8854920" y="1378080"/>
                <a:ext cx="285840" cy="1366560"/>
                <a:chOff x="8854920" y="1378080"/>
                <a:chExt cx="285840" cy="1366560"/>
              </a:xfrm>
            </p:grpSpPr>
            <p:sp>
              <p:nvSpPr>
                <p:cNvPr id="3144" name="AutoShape 117"/>
                <p:cNvSpPr/>
                <p:nvPr/>
              </p:nvSpPr>
              <p:spPr>
                <a:xfrm rot="5400000">
                  <a:off x="8858160" y="13748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AutoShape 118"/>
                <p:cNvSpPr/>
                <p:nvPr/>
              </p:nvSpPr>
              <p:spPr>
                <a:xfrm rot="5400000">
                  <a:off x="8858160" y="16416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AutoShape 119"/>
                <p:cNvSpPr/>
                <p:nvPr/>
              </p:nvSpPr>
              <p:spPr>
                <a:xfrm rot="5400000">
                  <a:off x="8858160" y="19213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AutoShape 120"/>
                <p:cNvSpPr/>
                <p:nvPr/>
              </p:nvSpPr>
              <p:spPr>
                <a:xfrm rot="5400000">
                  <a:off x="8858160" y="21880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AutoShape 121"/>
                <p:cNvSpPr/>
                <p:nvPr/>
              </p:nvSpPr>
              <p:spPr>
                <a:xfrm rot="5400000">
                  <a:off x="8858160" y="24620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9" name="Group 122"/>
              <p:cNvGrpSpPr/>
              <p:nvPr/>
            </p:nvGrpSpPr>
            <p:grpSpPr>
              <a:xfrm>
                <a:off x="8854920" y="2745000"/>
                <a:ext cx="285840" cy="1366560"/>
                <a:chOff x="8854920" y="2745000"/>
                <a:chExt cx="285840" cy="1366560"/>
              </a:xfrm>
            </p:grpSpPr>
            <p:sp>
              <p:nvSpPr>
                <p:cNvPr id="3150" name="AutoShape 123"/>
                <p:cNvSpPr/>
                <p:nvPr/>
              </p:nvSpPr>
              <p:spPr>
                <a:xfrm rot="5400000">
                  <a:off x="8858160" y="27417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AutoShape 124"/>
                <p:cNvSpPr/>
                <p:nvPr/>
              </p:nvSpPr>
              <p:spPr>
                <a:xfrm rot="5400000">
                  <a:off x="8858160" y="30085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AutoShape 125"/>
                <p:cNvSpPr/>
                <p:nvPr/>
              </p:nvSpPr>
              <p:spPr>
                <a:xfrm rot="5400000">
                  <a:off x="8858160" y="3288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AutoShape 126"/>
                <p:cNvSpPr/>
                <p:nvPr/>
              </p:nvSpPr>
              <p:spPr>
                <a:xfrm rot="5400000">
                  <a:off x="8858160" y="355500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AutoShape 127"/>
                <p:cNvSpPr/>
                <p:nvPr/>
              </p:nvSpPr>
              <p:spPr>
                <a:xfrm rot="5400000">
                  <a:off x="8858160" y="382896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5" name="Group 128"/>
              <p:cNvGrpSpPr/>
              <p:nvPr/>
            </p:nvGrpSpPr>
            <p:grpSpPr>
              <a:xfrm>
                <a:off x="8858160" y="4110480"/>
                <a:ext cx="285840" cy="1366560"/>
                <a:chOff x="8858160" y="4110480"/>
                <a:chExt cx="285840" cy="1366560"/>
              </a:xfrm>
            </p:grpSpPr>
            <p:sp>
              <p:nvSpPr>
                <p:cNvPr id="3156" name="AutoShape 129"/>
                <p:cNvSpPr/>
                <p:nvPr/>
              </p:nvSpPr>
              <p:spPr>
                <a:xfrm rot="5400000">
                  <a:off x="8861400" y="41072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AutoShape 130"/>
                <p:cNvSpPr/>
                <p:nvPr/>
              </p:nvSpPr>
              <p:spPr>
                <a:xfrm rot="5400000">
                  <a:off x="8861400" y="437400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AutoShape 131"/>
                <p:cNvSpPr/>
                <p:nvPr/>
              </p:nvSpPr>
              <p:spPr>
                <a:xfrm rot="5400000">
                  <a:off x="8861400" y="465372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AutoShape 132"/>
                <p:cNvSpPr/>
                <p:nvPr/>
              </p:nvSpPr>
              <p:spPr>
                <a:xfrm rot="5400000">
                  <a:off x="8861400" y="4920480"/>
                  <a:ext cx="27900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AutoShape 133"/>
                <p:cNvSpPr/>
                <p:nvPr/>
              </p:nvSpPr>
              <p:spPr>
                <a:xfrm rot="5400000">
                  <a:off x="8861400" y="5194440"/>
                  <a:ext cx="279360" cy="2858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61" name="AutoShape 134"/>
            <p:cNvSpPr/>
            <p:nvPr/>
          </p:nvSpPr>
          <p:spPr>
            <a:xfrm rot="5400000">
              <a:off x="8859600" y="54745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AutoShape 135"/>
            <p:cNvSpPr/>
            <p:nvPr/>
          </p:nvSpPr>
          <p:spPr>
            <a:xfrm rot="5400000">
              <a:off x="8859600" y="574200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AutoShape 136"/>
            <p:cNvSpPr/>
            <p:nvPr/>
          </p:nvSpPr>
          <p:spPr>
            <a:xfrm rot="5400000">
              <a:off x="8854920" y="602172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AutoShape 137"/>
            <p:cNvSpPr/>
            <p:nvPr/>
          </p:nvSpPr>
          <p:spPr>
            <a:xfrm rot="5400000">
              <a:off x="8847000" y="6288840"/>
              <a:ext cx="279720" cy="2858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5" name="Text Box 138"/>
          <p:cNvSpPr/>
          <p:nvPr/>
        </p:nvSpPr>
        <p:spPr>
          <a:xfrm>
            <a:off x="544680" y="137808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order of rotational symmetry of the shape bel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6" name="Group 186"/>
          <p:cNvGrpSpPr/>
          <p:nvPr/>
        </p:nvGrpSpPr>
        <p:grpSpPr>
          <a:xfrm>
            <a:off x="2781360" y="2281320"/>
            <a:ext cx="3370320" cy="3370320"/>
            <a:chOff x="2781360" y="2281320"/>
            <a:chExt cx="3370320" cy="3370320"/>
          </a:xfrm>
        </p:grpSpPr>
        <p:sp>
          <p:nvSpPr>
            <p:cNvPr id="3167" name="Oval 187"/>
            <p:cNvSpPr/>
            <p:nvPr/>
          </p:nvSpPr>
          <p:spPr>
            <a:xfrm>
              <a:off x="2781360" y="2281320"/>
              <a:ext cx="3370320" cy="337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8" name="Group 188"/>
            <p:cNvGrpSpPr/>
            <p:nvPr/>
          </p:nvGrpSpPr>
          <p:grpSpPr>
            <a:xfrm>
              <a:off x="2853000" y="2310120"/>
              <a:ext cx="3211560" cy="3057120"/>
              <a:chOff x="2853000" y="2310120"/>
              <a:chExt cx="3211560" cy="3057120"/>
            </a:xfrm>
          </p:grpSpPr>
          <p:sp>
            <p:nvSpPr>
              <p:cNvPr id="3169" name="AutoShape 189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AutoShape 190"/>
              <p:cNvSpPr/>
              <p:nvPr/>
            </p:nvSpPr>
            <p:spPr>
              <a:xfrm>
                <a:off x="2858040" y="2314800"/>
                <a:ext cx="3206520" cy="30474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Line 191"/>
              <p:cNvSpPr/>
              <p:nvPr/>
            </p:nvSpPr>
            <p:spPr>
              <a:xfrm>
                <a:off x="2858040" y="3476880"/>
                <a:ext cx="32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Line 192"/>
              <p:cNvSpPr/>
              <p:nvPr/>
            </p:nvSpPr>
            <p:spPr>
              <a:xfrm>
                <a:off x="2853000" y="3481560"/>
                <a:ext cx="2590920" cy="18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Line 193"/>
              <p:cNvSpPr/>
              <p:nvPr/>
            </p:nvSpPr>
            <p:spPr>
              <a:xfrm flipH="1">
                <a:off x="3478320" y="3478320"/>
                <a:ext cx="2584440" cy="188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Line 194"/>
              <p:cNvSpPr/>
              <p:nvPr/>
            </p:nvSpPr>
            <p:spPr>
              <a:xfrm flipH="1" flipV="1">
                <a:off x="4459320" y="2316240"/>
                <a:ext cx="979560" cy="30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Line 195"/>
              <p:cNvSpPr/>
              <p:nvPr/>
            </p:nvSpPr>
            <p:spPr>
              <a:xfrm flipV="1">
                <a:off x="3486600" y="2311200"/>
                <a:ext cx="974520" cy="303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Freeform 196"/>
              <p:cNvSpPr/>
              <p:nvPr/>
            </p:nvSpPr>
            <p:spPr>
              <a:xfrm>
                <a:off x="3853080" y="3476880"/>
                <a:ext cx="1209960" cy="11710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Freeform 197"/>
              <p:cNvSpPr/>
              <p:nvPr/>
            </p:nvSpPr>
            <p:spPr>
              <a:xfrm>
                <a:off x="4086720" y="2314800"/>
                <a:ext cx="749160" cy="115848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Freeform 198"/>
              <p:cNvSpPr/>
              <p:nvPr/>
            </p:nvSpPr>
            <p:spPr>
              <a:xfrm>
                <a:off x="4835880" y="3470400"/>
                <a:ext cx="1228680" cy="72684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Freeform 199"/>
              <p:cNvSpPr/>
              <p:nvPr/>
            </p:nvSpPr>
            <p:spPr>
              <a:xfrm>
                <a:off x="4467600" y="4206960"/>
                <a:ext cx="971640" cy="115236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Freeform 200"/>
              <p:cNvSpPr/>
              <p:nvPr/>
            </p:nvSpPr>
            <p:spPr>
              <a:xfrm>
                <a:off x="3480120" y="4203720"/>
                <a:ext cx="981000" cy="115560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Freeform 201"/>
              <p:cNvSpPr/>
              <p:nvPr/>
            </p:nvSpPr>
            <p:spPr>
              <a:xfrm>
                <a:off x="2858040" y="3473640"/>
                <a:ext cx="1222200" cy="732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Freeform 202"/>
              <p:cNvSpPr/>
              <p:nvPr/>
            </p:nvSpPr>
            <p:spPr>
              <a:xfrm>
                <a:off x="4462920" y="2310120"/>
                <a:ext cx="1595520" cy="115704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Freeform 203"/>
              <p:cNvSpPr/>
              <p:nvPr/>
            </p:nvSpPr>
            <p:spPr>
              <a:xfrm>
                <a:off x="5072400" y="3471840"/>
                <a:ext cx="990720" cy="188568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Freeform 204"/>
              <p:cNvSpPr/>
              <p:nvPr/>
            </p:nvSpPr>
            <p:spPr>
              <a:xfrm>
                <a:off x="3481920" y="4653000"/>
                <a:ext cx="1957320" cy="71424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Freeform 205"/>
              <p:cNvSpPr/>
              <p:nvPr/>
            </p:nvSpPr>
            <p:spPr>
              <a:xfrm>
                <a:off x="2862720" y="3476880"/>
                <a:ext cx="985680" cy="188064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Freeform 206"/>
              <p:cNvSpPr/>
              <p:nvPr/>
            </p:nvSpPr>
            <p:spPr>
              <a:xfrm>
                <a:off x="2862720" y="2310120"/>
                <a:ext cx="1590480" cy="116676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f9738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7" name="Group 185"/>
          <p:cNvGrpSpPr/>
          <p:nvPr/>
        </p:nvGrpSpPr>
        <p:grpSpPr>
          <a:xfrm>
            <a:off x="2725560" y="2246400"/>
            <a:ext cx="3493800" cy="3493800"/>
            <a:chOff x="2725560" y="2246400"/>
            <a:chExt cx="3493800" cy="3493800"/>
          </a:xfrm>
        </p:grpSpPr>
        <p:sp>
          <p:nvSpPr>
            <p:cNvPr id="3188" name="Oval 142"/>
            <p:cNvSpPr/>
            <p:nvPr/>
          </p:nvSpPr>
          <p:spPr>
            <a:xfrm>
              <a:off x="2725560" y="2246400"/>
              <a:ext cx="3493800" cy="3493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9" name="Group 165"/>
            <p:cNvGrpSpPr/>
            <p:nvPr/>
          </p:nvGrpSpPr>
          <p:grpSpPr>
            <a:xfrm>
              <a:off x="2799720" y="2275920"/>
              <a:ext cx="3328920" cy="3169440"/>
              <a:chOff x="2799720" y="2275920"/>
              <a:chExt cx="3328920" cy="3169440"/>
            </a:xfrm>
          </p:grpSpPr>
          <p:sp>
            <p:nvSpPr>
              <p:cNvPr id="3190" name="AutoShape 2"/>
              <p:cNvSpPr/>
              <p:nvPr/>
            </p:nvSpPr>
            <p:spPr>
              <a:xfrm>
                <a:off x="2804760" y="2280960"/>
                <a:ext cx="3323880" cy="3159000"/>
              </a:xfrm>
              <a:prstGeom prst="pentagon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AutoShape 141"/>
              <p:cNvSpPr/>
              <p:nvPr/>
            </p:nvSpPr>
            <p:spPr>
              <a:xfrm>
                <a:off x="2804760" y="2280960"/>
                <a:ext cx="3323880" cy="3159000"/>
              </a:xfrm>
              <a:prstGeom prst="pentagon">
                <a:avLst/>
              </a:prstGeom>
              <a:solidFill>
                <a:srgbClr val="edbf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Line 149"/>
              <p:cNvSpPr/>
              <p:nvPr/>
            </p:nvSpPr>
            <p:spPr>
              <a:xfrm>
                <a:off x="2804760" y="3485520"/>
                <a:ext cx="332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Line 150"/>
              <p:cNvSpPr/>
              <p:nvPr/>
            </p:nvSpPr>
            <p:spPr>
              <a:xfrm>
                <a:off x="2799720" y="3490560"/>
                <a:ext cx="2685600" cy="19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Line 151"/>
              <p:cNvSpPr/>
              <p:nvPr/>
            </p:nvSpPr>
            <p:spPr>
              <a:xfrm flipH="1">
                <a:off x="3448080" y="3486960"/>
                <a:ext cx="2679120" cy="19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Line 152"/>
              <p:cNvSpPr/>
              <p:nvPr/>
            </p:nvSpPr>
            <p:spPr>
              <a:xfrm flipH="1" flipV="1">
                <a:off x="4465080" y="2282400"/>
                <a:ext cx="1015200" cy="315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Line 153"/>
              <p:cNvSpPr/>
              <p:nvPr/>
            </p:nvSpPr>
            <p:spPr>
              <a:xfrm flipV="1">
                <a:off x="3456360" y="2277720"/>
                <a:ext cx="1010160" cy="31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Freeform 154"/>
              <p:cNvSpPr/>
              <p:nvPr/>
            </p:nvSpPr>
            <p:spPr>
              <a:xfrm>
                <a:off x="3836160" y="3485520"/>
                <a:ext cx="1254240" cy="1214280"/>
              </a:xfrm>
              <a:custGeom>
                <a:avLst/>
                <a:gdLst/>
                <a:ahLst/>
                <a:rect l="l" t="t" r="r" b="b"/>
                <a:pathLst>
                  <a:path w="762" h="738">
                    <a:moveTo>
                      <a:pt x="141" y="0"/>
                    </a:moveTo>
                    <a:lnTo>
                      <a:pt x="615" y="0"/>
                    </a:lnTo>
                    <a:lnTo>
                      <a:pt x="762" y="456"/>
                    </a:lnTo>
                    <a:lnTo>
                      <a:pt x="384" y="738"/>
                    </a:lnTo>
                    <a:lnTo>
                      <a:pt x="0" y="45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Freeform 155"/>
              <p:cNvSpPr/>
              <p:nvPr/>
            </p:nvSpPr>
            <p:spPr>
              <a:xfrm>
                <a:off x="4078440" y="2280960"/>
                <a:ext cx="776520" cy="1200960"/>
              </a:xfrm>
              <a:custGeom>
                <a:avLst/>
                <a:gdLst/>
                <a:ahLst/>
                <a:rect l="l" t="t" r="r" b="b"/>
                <a:pathLst>
                  <a:path w="472" h="730">
                    <a:moveTo>
                      <a:pt x="0" y="730"/>
                    </a:moveTo>
                    <a:lnTo>
                      <a:pt x="232" y="0"/>
                    </a:lnTo>
                    <a:lnTo>
                      <a:pt x="472" y="728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Freeform 156"/>
              <p:cNvSpPr/>
              <p:nvPr/>
            </p:nvSpPr>
            <p:spPr>
              <a:xfrm>
                <a:off x="4854960" y="3479040"/>
                <a:ext cx="1273680" cy="753480"/>
              </a:xfrm>
              <a:custGeom>
                <a:avLst/>
                <a:gdLst/>
                <a:ahLst/>
                <a:rect l="l" t="t" r="r" b="b"/>
                <a:pathLst>
                  <a:path w="774" h="458">
                    <a:moveTo>
                      <a:pt x="0" y="0"/>
                    </a:moveTo>
                    <a:lnTo>
                      <a:pt x="774" y="0"/>
                    </a:lnTo>
                    <a:lnTo>
                      <a:pt x="148" y="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Freeform 157"/>
              <p:cNvSpPr/>
              <p:nvPr/>
            </p:nvSpPr>
            <p:spPr>
              <a:xfrm>
                <a:off x="4473360" y="4242240"/>
                <a:ext cx="1006920" cy="1194840"/>
              </a:xfrm>
              <a:custGeom>
                <a:avLst/>
                <a:gdLst/>
                <a:ahLst/>
                <a:rect l="l" t="t" r="r" b="b"/>
                <a:pathLst>
                  <a:path w="612" h="726">
                    <a:moveTo>
                      <a:pt x="612" y="726"/>
                    </a:moveTo>
                    <a:lnTo>
                      <a:pt x="0" y="278"/>
                    </a:lnTo>
                    <a:lnTo>
                      <a:pt x="382" y="0"/>
                    </a:lnTo>
                    <a:lnTo>
                      <a:pt x="612" y="7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Freeform 158"/>
              <p:cNvSpPr/>
              <p:nvPr/>
            </p:nvSpPr>
            <p:spPr>
              <a:xfrm>
                <a:off x="3449520" y="4239000"/>
                <a:ext cx="1016640" cy="1198080"/>
              </a:xfrm>
              <a:custGeom>
                <a:avLst/>
                <a:gdLst/>
                <a:ahLst/>
                <a:rect l="l" t="t" r="r" b="b"/>
                <a:pathLst>
                  <a:path w="618" h="728">
                    <a:moveTo>
                      <a:pt x="234" y="0"/>
                    </a:moveTo>
                    <a:lnTo>
                      <a:pt x="0" y="728"/>
                    </a:lnTo>
                    <a:lnTo>
                      <a:pt x="618" y="28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Freeform 159"/>
              <p:cNvSpPr/>
              <p:nvPr/>
            </p:nvSpPr>
            <p:spPr>
              <a:xfrm>
                <a:off x="2804760" y="3482280"/>
                <a:ext cx="1266840" cy="759960"/>
              </a:xfrm>
              <a:custGeom>
                <a:avLst/>
                <a:gdLst/>
                <a:ahLst/>
                <a:rect l="l" t="t" r="r" b="b"/>
                <a:pathLst>
                  <a:path w="770" h="462">
                    <a:moveTo>
                      <a:pt x="770" y="0"/>
                    </a:moveTo>
                    <a:lnTo>
                      <a:pt x="0" y="2"/>
                    </a:lnTo>
                    <a:lnTo>
                      <a:pt x="626" y="46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Freeform 160"/>
              <p:cNvSpPr/>
              <p:nvPr/>
            </p:nvSpPr>
            <p:spPr>
              <a:xfrm>
                <a:off x="4468320" y="2275920"/>
                <a:ext cx="1653840" cy="1199520"/>
              </a:xfrm>
              <a:custGeom>
                <a:avLst/>
                <a:gdLst/>
                <a:ahLst/>
                <a:rect l="l" t="t" r="r" b="b"/>
                <a:pathLst>
                  <a:path w="1005" h="729">
                    <a:moveTo>
                      <a:pt x="1005" y="729"/>
                    </a:moveTo>
                    <a:lnTo>
                      <a:pt x="240" y="729"/>
                    </a:lnTo>
                    <a:lnTo>
                      <a:pt x="0" y="0"/>
                    </a:lnTo>
                    <a:lnTo>
                      <a:pt x="1005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Freeform 161"/>
              <p:cNvSpPr/>
              <p:nvPr/>
            </p:nvSpPr>
            <p:spPr>
              <a:xfrm>
                <a:off x="5100120" y="3480480"/>
                <a:ext cx="1026720" cy="1954800"/>
              </a:xfrm>
              <a:custGeom>
                <a:avLst/>
                <a:gdLst/>
                <a:ahLst/>
                <a:rect l="l" t="t" r="r" b="b"/>
                <a:pathLst>
                  <a:path w="624" h="1188">
                    <a:moveTo>
                      <a:pt x="624" y="0"/>
                    </a:moveTo>
                    <a:lnTo>
                      <a:pt x="228" y="1188"/>
                    </a:lnTo>
                    <a:lnTo>
                      <a:pt x="0" y="462"/>
                    </a:lnTo>
                    <a:lnTo>
                      <a:pt x="6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Freeform 162"/>
              <p:cNvSpPr/>
              <p:nvPr/>
            </p:nvSpPr>
            <p:spPr>
              <a:xfrm>
                <a:off x="3451680" y="4704840"/>
                <a:ext cx="2028960" cy="740520"/>
              </a:xfrm>
              <a:custGeom>
                <a:avLst/>
                <a:gdLst/>
                <a:ahLst/>
                <a:rect l="l" t="t" r="r" b="b"/>
                <a:pathLst>
                  <a:path w="1233" h="450">
                    <a:moveTo>
                      <a:pt x="0" y="450"/>
                    </a:moveTo>
                    <a:lnTo>
                      <a:pt x="1233" y="450"/>
                    </a:lnTo>
                    <a:lnTo>
                      <a:pt x="621" y="0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Freeform 163"/>
              <p:cNvSpPr/>
              <p:nvPr/>
            </p:nvSpPr>
            <p:spPr>
              <a:xfrm>
                <a:off x="2809440" y="3485520"/>
                <a:ext cx="1021680" cy="1949760"/>
              </a:xfrm>
              <a:custGeom>
                <a:avLst/>
                <a:gdLst/>
                <a:ahLst/>
                <a:rect l="l" t="t" r="r" b="b"/>
                <a:pathLst>
                  <a:path w="621" h="1185">
                    <a:moveTo>
                      <a:pt x="0" y="0"/>
                    </a:moveTo>
                    <a:lnTo>
                      <a:pt x="621" y="459"/>
                    </a:lnTo>
                    <a:lnTo>
                      <a:pt x="390" y="1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Freeform 164"/>
              <p:cNvSpPr/>
              <p:nvPr/>
            </p:nvSpPr>
            <p:spPr>
              <a:xfrm>
                <a:off x="2809440" y="2275920"/>
                <a:ext cx="1648440" cy="1209600"/>
              </a:xfrm>
              <a:custGeom>
                <a:avLst/>
                <a:gdLst/>
                <a:ahLst/>
                <a:rect l="l" t="t" r="r" b="b"/>
                <a:pathLst>
                  <a:path w="1002" h="735">
                    <a:moveTo>
                      <a:pt x="0" y="732"/>
                    </a:moveTo>
                    <a:lnTo>
                      <a:pt x="1002" y="0"/>
                    </a:lnTo>
                    <a:lnTo>
                      <a:pt x="768" y="735"/>
                    </a:lnTo>
                    <a:lnTo>
                      <a:pt x="0" y="7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8" name="Oval 207"/>
          <p:cNvSpPr/>
          <p:nvPr/>
        </p:nvSpPr>
        <p:spPr>
          <a:xfrm>
            <a:off x="4376880" y="2614680"/>
            <a:ext cx="158760" cy="158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Text Box 208"/>
          <p:cNvSpPr/>
          <p:nvPr/>
        </p:nvSpPr>
        <p:spPr>
          <a:xfrm>
            <a:off x="2209680" y="525600"/>
            <a:ext cx="465768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Rotation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6:09:55Z</dcterms:created>
  <dc:creator>Administrator</dc:creator>
  <dc:description/>
  <dc:language>en-US</dc:language>
  <cp:lastModifiedBy>Cynthia H. Morgan</cp:lastModifiedBy>
  <dcterms:modified xsi:type="dcterms:W3CDTF">2015-03-27T20:14:39Z</dcterms:modified>
  <cp:revision>23</cp:revision>
  <dc:subject/>
  <dc:title>Reflection and Rotation Symmetry</dc:title>
</cp:coreProperties>
</file>